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820275" cy="75453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DB95-7EA6-4DB6-99A6-EE9267E5A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883908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320" y="4263480"/>
            <a:ext cx="883908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04A7-25D1-44F0-83A8-C81E8F7DB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948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0320" y="42634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9480" y="42634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6108-95D9-474C-B143-94ADC6A64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8680" y="15922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67400" y="15922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320" y="42634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8680" y="42634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67400" y="4263480"/>
            <a:ext cx="284580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7A51-D5F2-446F-8B42-9A4238A50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0320" y="1592280"/>
            <a:ext cx="883908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B8FD-4D3A-47C5-B65F-5DAABB0F2B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883908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F101-1900-465B-B267-E961CFAA0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431316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9480" y="1592280"/>
            <a:ext cx="431316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A378-89C6-44CC-81CF-45B514215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5216-2A6A-4D79-8F1E-F2D3B76D1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0320" y="303120"/>
            <a:ext cx="88390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B18B-56EF-4885-8621-9C1EA3839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9480" y="1592280"/>
            <a:ext cx="431316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0320" y="42634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2525-7C5B-4D33-84C2-9798B968B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431316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948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9480" y="42634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BFED-D02A-4470-8C5C-4CE5A5EB8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0320" y="298800"/>
            <a:ext cx="8839080" cy="797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9480" y="1592280"/>
            <a:ext cx="431316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320" y="4263480"/>
            <a:ext cx="8839080" cy="2439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2383-55A0-4AAA-9421-2B2AE4628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0320" y="303120"/>
            <a:ext cx="8839080" cy="789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0320" y="1592280"/>
            <a:ext cx="8839080" cy="5113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87680" indent="-2430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008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008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008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5920" y="7040160"/>
            <a:ext cx="3108240" cy="352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37280" y="7040160"/>
            <a:ext cx="2292480" cy="352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3F9A-C7E3-4C26-93DF-09432E065D7F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6"/>
          <p:cNvSpPr/>
          <p:nvPr/>
        </p:nvSpPr>
        <p:spPr>
          <a:xfrm>
            <a:off x="453960" y="1019160"/>
            <a:ext cx="883440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33680" y="140976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4200" spc="-1" strike="noStrike">
                <a:solidFill>
                  <a:srgbClr val="1c1c1c"/>
                </a:solidFill>
                <a:latin typeface="Palatino Linotype"/>
              </a:rPr>
              <a:t>Regional Referral Centers Pilot Study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Affiliated Tribes of NW In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Airway Heights, 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September 21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96720" y="987480"/>
            <a:ext cx="88347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Wood Bird"/>
          <p:cNvPicPr/>
          <p:nvPr/>
        </p:nvPicPr>
        <p:blipFill>
          <a:blip r:embed="rId1"/>
          <a:srcRect l="0" t="0" r="3935" b="0"/>
          <a:stretch/>
        </p:blipFill>
        <p:spPr>
          <a:xfrm>
            <a:off x="413640" y="2171880"/>
            <a:ext cx="2809800" cy="4419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490680" y="393840"/>
            <a:ext cx="875664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Portland Area Facilities Advisor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4604586-D66F-4575-A7F1-7201AA59BED1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90680" y="133308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ed Demonstr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474840" y="190440"/>
            <a:ext cx="89200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290600" y="2247840"/>
          <a:ext cx="7429680" cy="3260880"/>
        </p:xfrm>
        <a:graphic>
          <a:graphicData uri="http://schemas.openxmlformats.org/drawingml/2006/table">
            <a:tbl>
              <a:tblPr/>
              <a:tblGrid>
                <a:gridCol w="639720"/>
                <a:gridCol w="2903760"/>
                <a:gridCol w="3886200"/>
              </a:tblGrid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articipant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laguam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lal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Special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qual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gical Special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klesh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ulatory Surg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yall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Imaging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luor, Mammo, CT, MR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squ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Gamble S’Klal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ch 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medic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213480"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65160"/>
                          <a:tab algn="l" pos="1930320"/>
                          <a:tab algn="l" pos="2895480"/>
                          <a:tab algn="l" pos="3860640"/>
                          <a:tab algn="l" pos="4826160"/>
                          <a:tab algn="l" pos="5791320"/>
                          <a:tab algn="l" pos="6756480"/>
                          <a:tab algn="l" pos="7721640"/>
                          <a:tab algn="l" pos="8686800"/>
                          <a:tab algn="l" pos="9651960"/>
                          <a:tab algn="l" pos="106171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274"/>
          <p:cNvSpPr/>
          <p:nvPr/>
        </p:nvSpPr>
        <p:spPr>
          <a:xfrm>
            <a:off x="871560" y="58294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marL="114480" indent="-114480">
              <a:spcBef>
                <a:spcPts val="45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ial workload will be based on a 60-minute drive time resulting in 24,000 primary care users in the NW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038163D-663E-437F-9588-03D5F669BCB2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18920" y="140940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hat's transpir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regional facilities were entered into current priority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referral centers could not be priorit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s can be defined for large, centralized popul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maller, geographically dispersed populations left o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Study was propos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velop preliminary planning criteria to size regional referral centers for small, dispersed popul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66AB47B-AD6B-4408-925A-D9D4DC940C63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66280" y="1333080"/>
            <a:ext cx="9068040" cy="5715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hat's transpir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Q-Area discussions generated 3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ty referral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patients are willing to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of alternative care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Q agreed to fund the Pilot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recommendations on the modification of planning criteria for geographically dispersed, multi-tribal pop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ational application (CA, OK, NS, BE Areas are intere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referral centers to be priorit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een by the PAF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3E8F9B-8674-4E3D-9C25-40BB2C378F55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66280" y="1333440"/>
            <a:ext cx="8610840" cy="5113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's transpire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ilot Study determined insufficient data is available for preliminary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mmended a demonstration project t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data to establish planning thres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specialty car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ssumptions on the viability of Regional Referral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FAC requested funding for a demonstration project November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iting Headquarters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8D934B1-478E-4A7F-899A-996D03FC71D6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90320" y="1714320"/>
            <a:ext cx="8839080" cy="36558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spcBef>
                <a:spcPts val="12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566640" y="1181160"/>
            <a:ext cx="86108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– the demonstration project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ding for the Area with a recurring staffing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diminish current funding or services for tri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nly specialty care; primary care will continue to be provided at local 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first of a 3-phase master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vailable to ALL Tribes for referral to the fac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ribes dependency on CHS, allowing CHS funding to be stretched fur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n better continuity of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B37D0A-DB57-4DBD-83D3-5E54CAC97283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23840" y="201888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Requesting a resolution adopted by ATNI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upport the planning and design of the Portland Area Regional Referral Center demonstration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866C6F-3F47-49C8-8265-A4313C514AF4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90320" y="171468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Questions…?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review full study you can access at NPAIHB’s webs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40516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www.npaihb/XXXX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7A7B33-4F4B-4348-9F70-EAEDAC15976E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4360" y="1333080"/>
            <a:ext cx="9083520" cy="571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hat are Regional Referral Center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cility where specialty care services are provided on a referral basis by surrounding healt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cility that might provide colonoscopy, endoscopic, cardiac stress tests, etc. (Priority 2 types of 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that does not have the high costs of maintaining a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ly competent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fit within current IHS facilit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B6F8D8-4E8B-4E3E-9174-7EFC6DF1A812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4360" y="1333080"/>
            <a:ext cx="9083520" cy="571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the benefits of Regional Cen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 CHS Dependency and equity concer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ome level of specialty care service for the Portland Are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vehicle for telemedicine serv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access to care and improve quality of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 savings for Tribal CHS progra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e third party reimbursements that can be used to provide additional serv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culturally competent c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the amount of construction funding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210FE3-7B82-4850-85D2-74426699E0A8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14360" y="1333080"/>
            <a:ext cx="9083520" cy="571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hy was this concept propos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ealthcare Facilities Construction Priority 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Portland Area representation since early ‘90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ional Referral Centers cannot be prioritiz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acilities funding received is inadequa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mited to Small Ambulatory and Dental Progra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rely has fully funded any projects (requiring tribal contribu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nding for staffing or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curring funding increases favor new faciliti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urring Pay Act and Inflation increases are grea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re staff, more patient visits generate more 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party colle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7541BEE-9B83-49EA-B466-13032A521CD0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811760" y="3583080"/>
            <a:ext cx="196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spAutoFit/>
          </a:bodyPr>
          <a:p>
            <a:pPr marL="371520" indent="-371520" algn="ctr">
              <a:tabLst>
                <a:tab algn="l" pos="0"/>
                <a:tab algn="l" pos="248616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66280" y="1333080"/>
            <a:ext cx="8990280" cy="6286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ow was the concept develop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HS Areas directed to develop maste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, Acting Director, IHS, Feb. 11,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e the healthcare needs for the Ar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healthcare needs of the Area Service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ype and location of faciliti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0,000 provided to each Area Office to assist in completing master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 PAO Tribes given 2 options for completing master pl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 PSAs (21 Tribes) master plans completed by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 Tribes provided partial funding to complete individ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24"/>
              </a:spcBef>
              <a:buNone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24"/>
              </a:spcBef>
              <a:buNone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24"/>
              </a:spcBef>
              <a:buNone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24"/>
              </a:spcBef>
              <a:buNone/>
              <a:tabLst>
                <a:tab algn="l" pos="914400"/>
                <a:tab algn="l" pos="2405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79520" y="271440"/>
            <a:ext cx="83167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78C980-2195-4C08-B01F-3778A5836A87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68080" y="1333080"/>
            <a:ext cx="8837640" cy="5111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ow was the concept developed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01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iteria defined by Tribes participating in master planning contr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y Care will remain a local ser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are referrals to justify specialty 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cilities recommen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87680" indent="-24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 Primary Service Areas (includes 3 urban, 4 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7680" indent="-24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outpatient specialty Regional Referral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7680" indent="-24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rea-wide Medical Center (hospi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013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 presented to NPAIHB, AT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pporting resolutions pas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41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rtland Area Health Services Master Plan Final Re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87680" indent="-24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and submitted October 1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AC4DDD-026F-456B-A04E-3D9ED95B6C93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2" descr=""/>
          <p:cNvPicPr/>
          <p:nvPr/>
        </p:nvPicPr>
        <p:blipFill>
          <a:blip r:embed="rId1"/>
          <a:srcRect l="1500" t="6564" r="1500" b="3751"/>
          <a:stretch/>
        </p:blipFill>
        <p:spPr>
          <a:xfrm>
            <a:off x="623880" y="1257480"/>
            <a:ext cx="857268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2036880" y="3030480"/>
            <a:ext cx="1741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70280" y="1432080"/>
            <a:ext cx="1524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rth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548080" y="6210360"/>
            <a:ext cx="1523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u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398920" y="2611440"/>
            <a:ext cx="1600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PS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– Tribal 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776680" y="4491000"/>
            <a:ext cx="1752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PSA – Federal 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548080" y="2146320"/>
            <a:ext cx="1295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Demonstratio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5432400" y="3317760"/>
            <a:ext cx="1600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PAFA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566640" y="106380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7" descr="Wood Bird"/>
          <p:cNvPicPr/>
          <p:nvPr/>
        </p:nvPicPr>
        <p:blipFill>
          <a:blip r:embed="rId2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8"/>
          <p:cNvSpPr/>
          <p:nvPr/>
        </p:nvSpPr>
        <p:spPr>
          <a:xfrm>
            <a:off x="479520" y="271440"/>
            <a:ext cx="8773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357960" y="1665360"/>
            <a:ext cx="3124080" cy="1556280"/>
          </a:xfrm>
          <a:prstGeom prst="rect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commended Regiona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E56373E-F140-4936-B98D-BDEE1A4EA7F3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180800"/>
            <a:ext cx="8745480" cy="571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361800" indent="-361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ommended Participating Tribes by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49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24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0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 baseline="4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to be selected by T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0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42960" y="1790640"/>
          <a:ext cx="8593200" cy="4813200"/>
        </p:xfrm>
        <a:graphic>
          <a:graphicData uri="http://schemas.openxmlformats.org/drawingml/2006/table">
            <a:tbl>
              <a:tblPr/>
              <a:tblGrid>
                <a:gridCol w="490680"/>
                <a:gridCol w="2317680"/>
                <a:gridCol w="1774800"/>
                <a:gridCol w="1806480"/>
                <a:gridCol w="2203560"/>
              </a:tblGrid>
              <a:tr h="328320">
                <a:tc gridSpan="2">
                  <a:txBody>
                    <a:bodyPr lIns="99360" rIns="99360" tIns="49680" bIns="496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a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9360" rIns="99360" tIns="49680" bIns="496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w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eur D’Ale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hal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ns Paiu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vil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h Ri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k-Suiatt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aw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isp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estow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alwa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ten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Elwh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kom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quil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z Per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qualm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w Cree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W Band of Shoshone</a:t>
                      </a:r>
                      <a:r>
                        <a:rPr b="0" i="1" lang="en-US" sz="15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a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xin Islan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wlit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shone-Bannock</a:t>
                      </a:r>
                      <a:r>
                        <a:rPr b="0" i="1" lang="en-US" sz="1500" spc="-1" strike="noStrike" baseline="4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kleshoo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laguam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Ron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ka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squal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quam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ma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atil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oksac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nomis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et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Gam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lali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 Spring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279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yallu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Skag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leu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k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69360">
                <a:tc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aul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200">
                <a:tc gridSpan="5">
                  <a:txBody>
                    <a:bodyPr lIns="99360" rIns="99360" tIns="49680" bIns="49680" anchor="t">
                      <a:noAutofit/>
                    </a:bodyPr>
                    <a:p>
                      <a:pPr algn="r"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3" name="Line 103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4"/>
          <p:cNvSpPr/>
          <p:nvPr/>
        </p:nvSpPr>
        <p:spPr>
          <a:xfrm>
            <a:off x="474840" y="289080"/>
            <a:ext cx="8920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5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6" descr="Wood Bird"/>
          <p:cNvPicPr/>
          <p:nvPr/>
        </p:nvPicPr>
        <p:blipFill>
          <a:blip r:embed="rId1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7037280" y="7040520"/>
            <a:ext cx="229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rm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AB1E26-5235-446F-9D94-D07EFFF586A1}" type="slidenum">
              <a:rPr b="0" lang="en-US" sz="11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5250" t="7500" r="63752" b="56251"/>
          <a:stretch/>
        </p:blipFill>
        <p:spPr>
          <a:xfrm>
            <a:off x="1938240" y="1486080"/>
            <a:ext cx="6782040" cy="5511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5367240" y="2705040"/>
            <a:ext cx="1600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A – Tribal 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665440" y="4638600"/>
            <a:ext cx="1752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A – Federal 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638760" y="3238560"/>
            <a:ext cx="1981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monstration Project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394240" y="3417840"/>
            <a:ext cx="1600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FAC (Ty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592200" y="1082520"/>
            <a:ext cx="8089920" cy="0"/>
          </a:xfrm>
          <a:prstGeom prst="line">
            <a:avLst/>
          </a:prstGeom>
          <a:ln w="22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66640" y="1066680"/>
            <a:ext cx="8089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Wood Bird"/>
          <p:cNvPicPr/>
          <p:nvPr/>
        </p:nvPicPr>
        <p:blipFill>
          <a:blip r:embed="rId2"/>
          <a:stretch/>
        </p:blipFill>
        <p:spPr>
          <a:xfrm>
            <a:off x="8720280" y="380880"/>
            <a:ext cx="509400" cy="7700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5"/>
          <p:cNvSpPr/>
          <p:nvPr/>
        </p:nvSpPr>
        <p:spPr>
          <a:xfrm>
            <a:off x="479520" y="271440"/>
            <a:ext cx="8469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PAFAC 2010 – Regional Referral Center Pilot Study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6357600" y="377208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1023840" y="1445040"/>
            <a:ext cx="3429000" cy="1556280"/>
          </a:xfrm>
          <a:prstGeom prst="rect">
            <a:avLst/>
          </a:prstGeom>
          <a:solidFill>
            <a:srgbClr val="ffff99">
              <a:alpha val="49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commended Demonstratio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14:58Z</dcterms:created>
  <dc:creator>Gene Kompkoff</dc:creator>
  <dc:description/>
  <dc:language>en-US</dc:language>
  <cp:lastModifiedBy>Jim Roberts</cp:lastModifiedBy>
  <dcterms:modified xsi:type="dcterms:W3CDTF">2014-10-22T17:21:50Z</dcterms:modified>
  <cp:revision>168</cp:revision>
  <dc:subject/>
  <dc:title>Portland Area Facilities Advisory Committee</dc:title>
</cp:coreProperties>
</file>