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7D8-B071-41C7-A7C9-44B0F7A0EBFF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8F05-30CA-41CA-A107-F694BF7A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884760" y="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044A-23B3-4E0F-80EF-A01B496EB64A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71B-DECC-46C3-920E-485249957AE2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A905-4AA7-4BDD-BDDD-205AEC419A4F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" descr="hobbs_masthead_wo_logo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SDW Logo_2Color.png"/>
          <p:cNvPicPr/>
          <p:nvPr/>
        </p:nvPicPr>
        <p:blipFill>
          <a:blip r:embed="rId5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F1F7-9CCC-4CF7-91F5-C64140E98388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hobbs_masthead_wo_logo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SDW Logo_2Color.png"/>
          <p:cNvPicPr/>
          <p:nvPr/>
        </p:nvPicPr>
        <p:blipFill>
          <a:blip r:embed="rId5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roels@hobbsstraus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Authority to Collect and Use 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ff Strommer,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bbs, Straus, Dean, &amp; Walker, 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M/M &amp; CHIP Fund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d)(2)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and CHIP funds collected under the direct billing authority must be used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or maintaining compliance with the requirements applicable to M/M and CHIP program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care service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health facilities or health program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“health-related purpose;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therwise achieve the objectives of Section 3 of the IHCIA (e.g., ensure highest possible health 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to Non-Benefici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use provisions in Section 401(d)(2)(A) apply to all third-party collections for services provided to non-beneficiaries under Section 813 of the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and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third-party reim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te:  “shall be used for the purposes listed in section 401(d)(2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ird-Party Reimburs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whether Section 401(d)(2)(A) also applies to other third-party reimbursements collected for services to eligible 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ervices not covered by Section 8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private insuranc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ges on interpretation of Section 207 of the IHCIA regarding “crediting reimburse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not be necessary to solve the open legal question/interpret Section 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requires T/TO “program income” to be sp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I: “[T]o further the general purpose of the contra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V: “[A]s supplemental funding to that negotiated in the funding agre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Provisions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ble to all “program inc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third-party reimbursement received or recovered by Title I and Title V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, CHIP, private insuranc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understood to mean that funds are to be used to supplement the funds Tribes receive to carry out health care-relat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New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 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F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mbursements from the 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acility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ird-party funds that are subject to 401(d)(2)(A) be used for new facility co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ation on IHS in appropriations law, prohibiting use of M/M and CHIP collections for new facilities—does not appear in provision applicable to T/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language in 401 should be read to include new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reimburse T/TO’s PRC programs for catastrophic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atements in IHCIA about how CHEF must be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S Administrative Guidelines for CHE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s made available for expenditures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ely for meeting extraordinary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s unused on approved case must be returned to IHS CHEF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erans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2901(b) of ACA:  T/TO are payers of last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 must pay for services provided by T/TO to veterans per Section 405(c) of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reimbursement agreements between T/TO and the VA may provide limitations on use of reimbursements (e.g., refer to Section 401(d) of IHCIA) or may say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ossible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Contracts:  Individual T/TO may have agreed to language in their ISDEAA agreements on use of third-party re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Law: T/TO should consider whether they have agreed to comply with, or are otherwise subject to, any state law limitations on use of third-party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November 24, 2014, HHS Office of Inspector General Ale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ed Tribes and Tribal Organizations (T/TO) to ensure that ISDEAA funds and M/M and CHIP reimbursements are properly allocated and s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 What are the limits on how third-party reimbursements, for services provided to individuals with alternative health coverage, may b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or Comment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ff Strommer: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strommer@hobbsstraus.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3-242-17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third-party reim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authority to 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s on funds in IHS “special f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use M/M and CHIP reimbursements when directly b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s for services to non-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questions and other possibl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federal program for individuals age 65+; younger based on certain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te-run federal program for low-income individual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Health Insurance Program (CHI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te-run federal program offering free/low-cost care to eligible children, and sometimes families and pregnant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health insu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e.g., Blue Cro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tfea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llections from liable third-parties, such as a person who caused an accident resulting in injury/medic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strophic Health Emergency Fund (CHE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HS funds for high-cost P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erans Administr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eimbursements VA makes to Tribes for services to vete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es and Third-Party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es authorized by law to seek reimbursement for services from M/M, CHIP, other third-party payers – as health care providers responsible for health under ISDEA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hird-party reimbursements may depend on provider type, facility type, relevant program and other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Third-Party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IHCIA in 1976, IHS facilities could not bill for and collect M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 amended the Social Security Act via Title IV of the IHCIA in 1976 to authorize billing M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Third-Party Funds Cont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ed to “facilities of the IHS,” whether operated by IHS or T/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ly required collections to be placed into a “special f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 to use the special fund for improvements necessary to achieve compliance with M/M participation/accreditati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 now in Section 401(c) of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CIA Reauthorization: Direct B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c)(2) now exempts tribal health programs from the “special fund” limitation if they elect to directly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d) now specifically authorizes T/TO to directly bill M/M, CHIP and any other third-party p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9:00:26Z</dcterms:created>
  <dc:creator>Andrea L. Cohen</dc:creator>
  <dc:description/>
  <dc:language>en-US</dc:language>
  <cp:lastModifiedBy>HSDW</cp:lastModifiedBy>
  <cp:lastPrinted>2015-01-05T20:11:29Z</cp:lastPrinted>
  <dcterms:modified xsi:type="dcterms:W3CDTF">2015-01-15T20:59:13Z</dcterms:modified>
  <cp:revision>44</cp:revision>
  <dc:subject/>
  <dc:title>Slide 1</dc:title>
</cp:coreProperties>
</file>