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B24-883D-4932-8E13-7AB58E90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D81-8194-48E3-8234-4F609A52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3CE-0890-4D36-9704-F960E1AC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298-4D3C-4559-B4C6-F924BFEE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17B-0290-498B-8348-474E3412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81F-4223-494F-BB66-8C2F45BD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F9D-B62D-4A48-ABAF-B8F7A8D9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D96-F53C-461D-88E3-95DEE64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8C66-2430-4D28-85C1-C014C07C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E90-5AD9-4A92-B4E8-B19FD592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839-815F-4F14-BA2B-056661E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FC2-A7A8-433C-BD85-FB5EA509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C6D-8B64-4CB1-904A-697123A1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ones"/>
          <p:cNvPicPr/>
          <p:nvPr/>
        </p:nvPicPr>
        <p:blipFill>
          <a:blip r:embed="rId2"/>
          <a:stretch/>
        </p:blipFill>
        <p:spPr>
          <a:xfrm>
            <a:off x="11160" y="621504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IHS multi-color"/>
          <p:cNvPicPr/>
          <p:nvPr/>
        </p:nvPicPr>
        <p:blipFill>
          <a:blip r:embed="rId3"/>
          <a:stretch/>
        </p:blipFill>
        <p:spPr>
          <a:xfrm>
            <a:off x="8263080" y="9540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HHS"/>
          <p:cNvPicPr/>
          <p:nvPr/>
        </p:nvPicPr>
        <p:blipFill>
          <a:blip r:embed="rId4"/>
          <a:stretch/>
        </p:blipFill>
        <p:spPr>
          <a:xfrm>
            <a:off x="74520" y="52560"/>
            <a:ext cx="84312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land Area Facilities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Lincol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. Director, I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1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hart 5" descr=""/>
          <p:cNvPicPr/>
          <p:nvPr/>
        </p:nvPicPr>
        <p:blipFill>
          <a:blip r:embed="rId1"/>
          <a:stretch/>
        </p:blipFill>
        <p:spPr>
          <a:xfrm>
            <a:off x="2286000" y="2060640"/>
            <a:ext cx="4572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y Construction Funding-11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y Staffing Funding-11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Recurring Increases Pa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Recurring Increases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land Example M, M and 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MC SW Clinic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y Construction Fu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 Years--$607.6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1996-$12.9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1997-$14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1998-$14.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1999-$41.0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0-$50.3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1-$85.5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2-$86.2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3-$81.5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4-$94.5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5-$88.5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6-$37.7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7 (H)-$36.6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y Staffing Funding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$208.791 million-2097 F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1450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non $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lak. $3.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tzbue $8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abel $10.2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. Def. $20.7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te E. $3.7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weta $11.7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ne. $14.3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lem $1.3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 Mesa $5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wnee $6.1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. $39.2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seton $6.7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ker $11.6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ys $2.0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. Paul $.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lihina $10.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. $19.7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side $4.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pi $8.0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UR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lce $3.3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e D. $4.9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curring Increases Pay Act (mill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720" y="170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0---$39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1---$46.5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2---$55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3---$43.8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4---$35.5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5---$36.1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6---$31.7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7---$41.3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0 through FY 2006---$288.57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curring Increases Inflation (million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0---$16.6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1---$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2---$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3---$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4---$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5---$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6---$46.0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7---$32.0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 2000 through FY 2006---$62.7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land Example M, M and 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visits X % eligible X all-Inclusive rate = $$$$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80,000 visits x .32 Medicaid eligible x $242 possible OMB all-inclusive rate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6,195,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re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,000 visits x .09 Medicare eligible x $198 possible OMB all-inclusive rate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1,425,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Insurance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,000 visits x .19 PI eligible x $ average PI reimbursement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x,xxx,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MC SW Clini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thwest  Clinic PI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Fund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28.71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ing Fund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7.84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6 New FTE---minus 21 existing FTE---times 85 %---times $8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s Reven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5.790 plus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,817 OPV’s---times 34% Medicaid Users---times $242 OMB Rate---equals $5.168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,817 OPV’s---times 5% Medicare Users---times $198---equals $.622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short-term and long-term impact on the community of infusing one time facility construction funding and recurring staffing funding and medicare, medicaid and private insurance funding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sustainable jobs created, business opportunities, tax revenue, etc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 2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, rigorous business studies need to be developed.  There are national models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04:08Z</dcterms:created>
  <dc:creator>Phoenix Indian Medical Center</dc:creator>
  <dc:description/>
  <dc:language>en-US</dc:language>
  <cp:lastModifiedBy>Jim Roberts</cp:lastModifiedBy>
  <dcterms:modified xsi:type="dcterms:W3CDTF">2015-07-09T16:27:37Z</dcterms:modified>
  <cp:revision>25</cp:revision>
  <dc:subject/>
  <dc:title>Portland Area Facilities Meeting</dc:title>
</cp:coreProperties>
</file>