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3F1F-588A-4EFF-A836-7F6FF9AC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6112F5-776C-4E2A-8970-AB955B4766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71E-F479-40EE-8893-26166050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F3A-C71C-47D6-8347-B6753E4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AF3-7D3B-456C-9816-424F190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340-3544-413B-B0C1-CA003243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13B-1BED-49DF-B2CF-A1AD198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49D-11D8-4423-AC59-2CE8AF0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8AF-3E08-4A62-B23F-7DB74C11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7F5-192C-4DB4-B6CA-E51D937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DB5-8B9F-4454-A8BC-C0DCBC1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905-1C25-4BFA-97EA-31090C5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53A-0268-452E-A23F-50CC149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C4F-B4EB-4BA4-AB57-502A28F5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A60-4DC2-450B-B45F-404666FF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ihslogo2"/>
          <p:cNvPicPr/>
          <p:nvPr/>
        </p:nvPicPr>
        <p:blipFill>
          <a:blip r:embed="rId2"/>
          <a:stretch/>
        </p:blipFill>
        <p:spPr>
          <a:xfrm>
            <a:off x="8282160" y="0"/>
            <a:ext cx="861840" cy="847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HHS"/>
          <p:cNvPicPr/>
          <p:nvPr/>
        </p:nvPicPr>
        <p:blipFill>
          <a:blip r:embed="rId3"/>
          <a:stretch/>
        </p:blipFill>
        <p:spPr>
          <a:xfrm>
            <a:off x="0" y="0"/>
            <a:ext cx="828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RECRUITING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y Crow DDS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, US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land Area, I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ritt Hawkins Physicia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ed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S Offers a “Favorable Practice “Br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perwork/More Time with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all/inpatient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“in the Ballpark” + L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  % survey expressed “Satisfacti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acles to Re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work/Red Tape                 47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S Policies &amp; Procedures         3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solation                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Issues                              3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s                                         3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s                       3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ming Shortage of Phys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upply of Physicians is shrinking, it is projected that the country will need 16,000 additional primary care doctors in the next de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ages/Competition can be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complexity/Diversity of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land Area Recruitmen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the Advantages of the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with Regional Partners – Schools Residency Program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Fam Med Physicians and Med Tec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1612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y Crow DDS,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Dental Con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Recr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land Area I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800600" y="209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top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s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s (MD’s, DO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actice Clinicians (PA’s, NP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MENT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ed Corps, US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Service (Title 5, 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bal 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HS Recruiting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School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ing at Professional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ng Student Ex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-Specifi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ystem fo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 Position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Jobs, IHS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RUITMENT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ing Bonus (R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Repay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chedule 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H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SC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SC L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, Dental, Mental Health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by NH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HS Loan Repa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 more discip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are ranked by position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Reports now exist for Medical, Dental, Pa’s, Nursing and mor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is to consolidate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that do not report, will not be sc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998-D0ED-4CB3-B270-136B90EEFAF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loanrepayment.ih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680" y="912600"/>
            <a:ext cx="554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le Health Profession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440" y="1736640"/>
            <a:ext cx="403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: allopathic and osteopat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: associate and BS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sychology: PhD and Psy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Work: master’s level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Dependency Counseling: baccalaureate and master’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’s in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Assi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8000" y="2003040"/>
            <a:ext cx="403884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rmacy: BS, Phar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Practice Nurses: Nurse Practitioner, Certified Nurse Midwife and Doctor of Nu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ed Registered Nurse Anesthetist (Priority consideration will be given to Registered Nurse Anesthet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282920" y="5764320"/>
            <a:ext cx="43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Arial"/>
              </a:rPr>
              <a:t>*As determined by the needs of Indian health programs and announced yearly in the Federal Regi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3:25Z</dcterms:created>
  <dc:creator>Terry Dean</dc:creator>
  <dc:description/>
  <dc:language>en-US</dc:language>
  <cp:lastModifiedBy>Crow, Woody G (IHS/POR)</cp:lastModifiedBy>
  <cp:lastPrinted>2013-04-08T19:46:57Z</cp:lastPrinted>
  <dcterms:modified xsi:type="dcterms:W3CDTF">2013-04-08T20:38:06Z</dcterms:modified>
  <cp:revision>33</cp:revision>
  <dc:subject/>
  <dc:title>Slide 1</dc:title>
</cp:coreProperties>
</file>