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media/image1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spcAft>
                <a:spcPts val="876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5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6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7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0B865C-A2F9-46AE-AD16-10B5BC321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02A42B-15FE-4825-8D5A-824E7F8EEE50}" type="slidenum">
              <a:rPr b="0" lang="en-US" sz="12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ue to HCR implementation the 340B drug pricing program has seen a dramatic expansion in relevancy due to the current economic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t’s original intent was to 1) provide affordable drug access for low income and indigent families and 2) create a revenue stream for qualifying entities from the price spread between 340B pricing and AWP.  When HCR was implemented a number of changes were included that directly impacted the 340B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 a result we are seeing a significant increase in 340B-targeted discussions, in RFP’s and in meetings.  Because of the increased interest a number of small companies have jumped in to provide an administrative solution for these Federally qualified entities.  At present we have not seen the larger PBM’s pursue this seg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40B program importance is due to its recently expanded scope and relevancy to the current US environment.  Its initial intent remains as a means to increase affordable drug access to low-income families while providing an alternative revenue stream for hospitals and entities serving this at risk population.  Healthcare reform implementation created a shift in the order and magnitude of importance for these inten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 of PPACA, 340B drug pricing has become a topic of increasing interest and focus from hospitals, Federally-Qualified Health Centers, American Indian tribes and other qualifying entities.  Numerous small companies have entered this market to provide administrative and/or management capabilities, however none of the larger PBM’s appear to have the capabilities or interest to pursue this seg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focus will be on providing additional depth to the 340B market background, size, specific impact HCR had on this area and what potential opportunities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F5D4-AEE8-411F-8D01-AC8B6AA7D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0007-1BB1-482E-B84D-A8FB7AEA1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99C6-2535-4B69-B941-CB4A1D415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4DAE-5E94-47CE-ABEE-AFD1AB65D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088E-188A-466D-8B66-06D8C44E0B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026E-A220-4A36-B314-2CF1229DA5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4D54-41D9-44AC-BFBC-4C3C2B40CF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8B4A-984F-486C-8E45-42D98F55B5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8241-A530-4EBB-8C59-80C1D9B2B3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5400" y="152280"/>
            <a:ext cx="822636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6404-68F7-490F-B801-DB1E56F7C6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389B-C86E-40DB-8D4E-A316F4A97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C319-2F45-430B-8829-30E2E16F9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EB88-E1F2-45C4-AB16-A7E45739FC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0EEF-670A-40BA-92E8-557BFC3BF5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D752-B7BC-490E-AA6F-930A860F1F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0BEF-A9A4-4C22-9314-2A5A3DB4AF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6E64-9264-4BF9-A0F3-738B72D1A3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940-0997-458E-991C-15F9618002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E71-F041-4567-BD55-3F83710E79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8DB-E26D-4F20-A925-EACD134BBD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6B8-112A-4967-926B-0C87AD47E4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B9C-4D7E-4924-BE33-1BDF3EDFC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AE23-7984-489A-8372-BE3A8FB981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5400" y="152280"/>
            <a:ext cx="822636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2DE-14DD-486D-B60F-5A6026C5FE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4C9-8C06-48F2-A653-7454A8C758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85C-00AD-4826-90F3-412A81557B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367-0063-4599-9671-B4204579E1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9B1-2D99-4B51-BCE1-53D5B9696C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57C-222B-4351-AD54-BB8C041877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28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136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28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136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AF5-46B0-4C27-9199-35F252CF51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47B42-EE06-4BEB-8A8D-AF9C5A99BA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9442A-B763-40A1-A33A-0A8F6DBA90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5343F-94C3-49CB-ACF6-46075E1D4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D09F-AA63-46FE-A86D-3E1C7724FF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9A0FE-4B3E-4C59-85D2-9A5884E5BF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F85FE-77BD-4357-BE4A-E50BE31F9E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5400" y="152280"/>
            <a:ext cx="822636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5755D-0D47-4FF1-888C-DF7A1BFEF9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45641-AECD-4D5B-917C-23A4FB78A4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FBBD6-6245-4C0E-8DFC-8ECFF3189B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B7DE2-1A25-4FB4-8B98-4B3BAD94AD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7DA89-2526-45E6-9EAC-3CD759F227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96F4B-1F5C-4605-81B4-521DB1C281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28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136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28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136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F0190-D5F1-4D8C-970B-852CF2B1605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C4C3-5254-40BF-9562-0038FC50E5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52280"/>
            <a:ext cx="822636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400" y="152280"/>
            <a:ext cx="822636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C044-E9F9-4192-A5EC-10C01A649B5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28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136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28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136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5400" y="152280"/>
            <a:ext cx="822636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60A1-7E7A-4FC6-A129-6603E05D0E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28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136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28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136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400" y="152280"/>
            <a:ext cx="822636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6061-559D-4502-AFD4-FA5415A7E7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3520" y="36817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28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1360" y="9601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28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1360" y="3681720"/>
            <a:ext cx="264924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960120"/>
            <a:ext cx="401508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1720"/>
            <a:ext cx="8228160" cy="24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8EB9-9461-41F0-858A-A0E27A0B1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2" marL="795240" indent="-17136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3" marL="1139760" indent="-23004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4" marL="1420920" indent="-16668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5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6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520" y="6580080"/>
            <a:ext cx="3049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284E-252E-4221-912A-8D3C104F73D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9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d4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5000"/>
              </a:lnSpc>
              <a:spcAft>
                <a:spcPts val="876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6487200" y="6580080"/>
            <a:ext cx="180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3666a"/>
                </a:solidFill>
                <a:latin typeface="Arial"/>
              </a:rPr>
              <a:t>Proprietary and Confidential. Do not distribute.</a:t>
            </a:r>
            <a:endParaRPr b="0" lang="en-US" sz="700" spc="-1" strike="noStrike">
              <a:solidFill>
                <a:srgbClr val="63666a"/>
              </a:solidFill>
              <a:latin typeface="Arial"/>
            </a:endParaRPr>
          </a:p>
        </p:txBody>
      </p:sp>
      <p:pic>
        <p:nvPicPr>
          <p:cNvPr id="5" name="Picture 12" descr="Optum_ColorBand-02"/>
          <p:cNvPicPr/>
          <p:nvPr/>
        </p:nvPicPr>
        <p:blipFill>
          <a:blip r:embed="rId2"/>
          <a:srcRect l="0" t="5797" r="0" b="0"/>
          <a:stretch/>
        </p:blipFill>
        <p:spPr>
          <a:xfrm>
            <a:off x="1484280" y="6475320"/>
            <a:ext cx="7201080" cy="46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OPTUMRx_RGB_PPT"/>
          <p:cNvPicPr/>
          <p:nvPr/>
        </p:nvPicPr>
        <p:blipFill>
          <a:blip r:embed="rId3"/>
          <a:stretch/>
        </p:blipFill>
        <p:spPr>
          <a:xfrm>
            <a:off x="173160" y="6302520"/>
            <a:ext cx="1189080" cy="30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2" marL="795240" indent="-17136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3" marL="1139760" indent="-23004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4" marL="1420920" indent="-16668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5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6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8381520" y="6580080"/>
            <a:ext cx="3049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A326-79D7-4BB7-83E3-7DF67E4BE84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5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d4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5000"/>
              </a:lnSpc>
              <a:spcAft>
                <a:spcPts val="876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487200" y="6580080"/>
            <a:ext cx="180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3666a"/>
                </a:solidFill>
                <a:latin typeface="Arial"/>
              </a:rPr>
              <a:t>Proprietary and Confidential. Do not distribute.</a:t>
            </a:r>
            <a:endParaRPr b="0" lang="en-US" sz="700" spc="-1" strike="noStrike">
              <a:solidFill>
                <a:srgbClr val="63666a"/>
              </a:solidFill>
              <a:latin typeface="Arial"/>
            </a:endParaRPr>
          </a:p>
        </p:txBody>
      </p:sp>
      <p:pic>
        <p:nvPicPr>
          <p:cNvPr id="48" name="Picture 16" descr="Optum_RGB_PPT"/>
          <p:cNvPicPr/>
          <p:nvPr/>
        </p:nvPicPr>
        <p:blipFill>
          <a:blip r:embed="rId2"/>
          <a:stretch/>
        </p:blipFill>
        <p:spPr>
          <a:xfrm>
            <a:off x="152280" y="6278400"/>
            <a:ext cx="1189080" cy="373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Optum_ColorBand-02"/>
          <p:cNvPicPr/>
          <p:nvPr/>
        </p:nvPicPr>
        <p:blipFill>
          <a:blip r:embed="rId3"/>
          <a:srcRect l="0" t="5797" r="0" b="0"/>
          <a:stretch/>
        </p:blipFill>
        <p:spPr>
          <a:xfrm>
            <a:off x="1484280" y="6475320"/>
            <a:ext cx="7201080" cy="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2" marL="795240" indent="-17136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3" marL="1139760" indent="-23004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4" marL="1420920" indent="-16668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5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6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8381520" y="6580080"/>
            <a:ext cx="3049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CD68-C30F-4F7C-9A71-FBC697AE120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d4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5000"/>
              </a:lnSpc>
              <a:spcAft>
                <a:spcPts val="876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487200" y="6580080"/>
            <a:ext cx="180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3666a"/>
                </a:solidFill>
                <a:latin typeface="Arial"/>
              </a:rPr>
              <a:t>Proprietary and Confidential. Do not distribute.</a:t>
            </a:r>
            <a:endParaRPr b="0" lang="en-US" sz="700" spc="-1" strike="noStrike">
              <a:solidFill>
                <a:srgbClr val="63666a"/>
              </a:solidFill>
              <a:latin typeface="Arial"/>
            </a:endParaRPr>
          </a:p>
        </p:txBody>
      </p:sp>
      <p:pic>
        <p:nvPicPr>
          <p:cNvPr id="91" name="Picture 16" descr="Optum_RGB_PPT"/>
          <p:cNvPicPr/>
          <p:nvPr/>
        </p:nvPicPr>
        <p:blipFill>
          <a:blip r:embed="rId2"/>
          <a:stretch/>
        </p:blipFill>
        <p:spPr>
          <a:xfrm>
            <a:off x="152280" y="6278400"/>
            <a:ext cx="1189080" cy="373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Optum_ColorBand-02"/>
          <p:cNvPicPr/>
          <p:nvPr/>
        </p:nvPicPr>
        <p:blipFill>
          <a:blip r:embed="rId3"/>
          <a:srcRect l="0" t="5797" r="0" b="0"/>
          <a:stretch/>
        </p:blipFill>
        <p:spPr>
          <a:xfrm>
            <a:off x="1484280" y="6475320"/>
            <a:ext cx="7201080" cy="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2" marL="795240" indent="-17136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3" marL="1139760" indent="-23004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4" marL="1420920" indent="-16668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5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6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381520" y="6580080"/>
            <a:ext cx="3049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C539-A53C-413A-96E7-6B348FD4F84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12600">
            <a:solidFill>
              <a:srgbClr val="d4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5000"/>
              </a:lnSpc>
              <a:spcAft>
                <a:spcPts val="876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487200" y="6580080"/>
            <a:ext cx="180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3666a"/>
                </a:solidFill>
                <a:latin typeface="Arial"/>
              </a:rPr>
              <a:t>Proprietary and Confidential. Do not distribute.</a:t>
            </a:r>
            <a:endParaRPr b="0" lang="en-US" sz="700" spc="-1" strike="noStrike">
              <a:solidFill>
                <a:srgbClr val="63666a"/>
              </a:solidFill>
              <a:latin typeface="Arial"/>
            </a:endParaRPr>
          </a:p>
        </p:txBody>
      </p:sp>
      <p:pic>
        <p:nvPicPr>
          <p:cNvPr id="134" name="Picture 16" descr="Optum_RGB_PPT"/>
          <p:cNvPicPr/>
          <p:nvPr/>
        </p:nvPicPr>
        <p:blipFill>
          <a:blip r:embed="rId2"/>
          <a:stretch/>
        </p:blipFill>
        <p:spPr>
          <a:xfrm>
            <a:off x="152280" y="6278400"/>
            <a:ext cx="1189080" cy="37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Optum_ColorBand-02"/>
          <p:cNvPicPr/>
          <p:nvPr/>
        </p:nvPicPr>
        <p:blipFill>
          <a:blip r:embed="rId3"/>
          <a:srcRect l="0" t="5797" r="0" b="0"/>
          <a:stretch/>
        </p:blipFill>
        <p:spPr>
          <a:xfrm>
            <a:off x="1484280" y="6475320"/>
            <a:ext cx="7201080" cy="4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1" descr="Optum_ColorBand-02"/>
          <p:cNvPicPr/>
          <p:nvPr/>
        </p:nvPicPr>
        <p:blipFill>
          <a:blip r:embed="rId2"/>
          <a:stretch/>
        </p:blipFill>
        <p:spPr>
          <a:xfrm>
            <a:off x="0" y="5008680"/>
            <a:ext cx="9144000" cy="10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OPTUMRx_RGB_PPT"/>
          <p:cNvPicPr/>
          <p:nvPr/>
        </p:nvPicPr>
        <p:blipFill>
          <a:blip r:embed="rId3"/>
          <a:stretch/>
        </p:blipFill>
        <p:spPr>
          <a:xfrm>
            <a:off x="368280" y="423720"/>
            <a:ext cx="2752920" cy="717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2" marL="795240" indent="-17136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3" marL="1139760" indent="-23004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4" marL="1420920" indent="-16668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5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6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1" descr="Optum_ColorBand-02"/>
          <p:cNvPicPr/>
          <p:nvPr/>
        </p:nvPicPr>
        <p:blipFill>
          <a:blip r:embed="rId2"/>
          <a:stretch/>
        </p:blipFill>
        <p:spPr>
          <a:xfrm>
            <a:off x="0" y="5008680"/>
            <a:ext cx="9144000" cy="109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Optum_RGB_PPT"/>
          <p:cNvPicPr/>
          <p:nvPr/>
        </p:nvPicPr>
        <p:blipFill>
          <a:blip r:embed="rId3"/>
          <a:stretch/>
        </p:blipFill>
        <p:spPr>
          <a:xfrm>
            <a:off x="380880" y="228600"/>
            <a:ext cx="2157480" cy="6793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2" marL="795240" indent="-17136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3" marL="1139760" indent="-23004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4" marL="1420920" indent="-16668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5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6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0" y="5097600"/>
            <a:ext cx="9144000" cy="1760400"/>
          </a:xfrm>
          <a:prstGeom prst="rect">
            <a:avLst/>
          </a:prstGeom>
          <a:solidFill>
            <a:srgbClr val="e877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pic>
        <p:nvPicPr>
          <p:cNvPr id="253" name="Picture 11" descr="Optum_ColorBand-02"/>
          <p:cNvPicPr/>
          <p:nvPr/>
        </p:nvPicPr>
        <p:blipFill>
          <a:blip r:embed="rId2"/>
          <a:stretch/>
        </p:blipFill>
        <p:spPr>
          <a:xfrm>
            <a:off x="0" y="5008680"/>
            <a:ext cx="9144000" cy="109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OPTUMRx_RGB_PPT"/>
          <p:cNvPicPr/>
          <p:nvPr/>
        </p:nvPicPr>
        <p:blipFill>
          <a:blip r:embed="rId3"/>
          <a:stretch/>
        </p:blipFill>
        <p:spPr>
          <a:xfrm>
            <a:off x="150840" y="176040"/>
            <a:ext cx="2752560" cy="717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2" marL="795240" indent="-17136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3" marL="1139760" indent="-23004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4" marL="1420920" indent="-16668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5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6" marL="1420920" indent="-16668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7" descr="AYP1315129.JPG"/>
          <p:cNvPicPr/>
          <p:nvPr/>
        </p:nvPicPr>
        <p:blipFill>
          <a:blip r:embed="rId1"/>
          <a:srcRect l="17174" t="0" r="3772" b="56553"/>
          <a:stretch/>
        </p:blipFill>
        <p:spPr>
          <a:xfrm>
            <a:off x="0" y="1235160"/>
            <a:ext cx="9144000" cy="37735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04400" y="5527800"/>
            <a:ext cx="768060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340b Program Background</a:t>
            </a:r>
            <a:endParaRPr b="1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04400" y="5930640"/>
            <a:ext cx="768060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3666a"/>
              </a:solidFill>
              <a:latin typeface="Arial"/>
            </a:endParaRPr>
          </a:p>
        </p:txBody>
      </p:sp>
      <p:pic>
        <p:nvPicPr>
          <p:cNvPr id="303" name="Picture 4" descr="Optum_ColorBand-02"/>
          <p:cNvPicPr/>
          <p:nvPr/>
        </p:nvPicPr>
        <p:blipFill>
          <a:blip r:embed="rId2"/>
          <a:stretch/>
        </p:blipFill>
        <p:spPr>
          <a:xfrm>
            <a:off x="0" y="5008680"/>
            <a:ext cx="9144000" cy="10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General Overview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14200"/>
            <a:ext cx="82281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95000"/>
              </a:lnSpc>
              <a:spcAft>
                <a:spcPts val="788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666a"/>
                </a:solidFill>
                <a:latin typeface="Arial"/>
              </a:rPr>
              <a:t>What is the 340b program </a:t>
            </a:r>
            <a:r>
              <a:rPr b="1" lang="en-US" sz="1800" spc="-1" strike="noStrike">
                <a:solidFill>
                  <a:srgbClr val="63666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3666a"/>
              </a:solidFill>
              <a:latin typeface="Arial"/>
            </a:endParaRPr>
          </a:p>
          <a:p>
            <a:pPr marL="168120" indent="0">
              <a:lnSpc>
                <a:spcPct val="95000"/>
              </a:lnSpc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788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666a"/>
                </a:solidFill>
                <a:latin typeface="Arial"/>
              </a:rPr>
              <a:t>Recent legislative changes and the impacts</a:t>
            </a:r>
            <a:endParaRPr b="0" lang="en-US" sz="1800" spc="-1" strike="noStrike">
              <a:solidFill>
                <a:srgbClr val="63666a"/>
              </a:solidFill>
              <a:latin typeface="Arial"/>
            </a:endParaRPr>
          </a:p>
          <a:p>
            <a:pPr marL="168120" indent="0">
              <a:lnSpc>
                <a:spcPct val="95000"/>
              </a:lnSpc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788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666a"/>
                </a:solidFill>
                <a:latin typeface="Arial"/>
              </a:rPr>
              <a:t>What it means for Indian Tribes</a:t>
            </a:r>
            <a:endParaRPr b="0" lang="en-US" sz="1800" spc="-1" strike="noStrike">
              <a:solidFill>
                <a:srgbClr val="63666a"/>
              </a:solidFill>
              <a:latin typeface="Arial"/>
            </a:endParaRPr>
          </a:p>
          <a:p>
            <a:pPr marL="168120" indent="0">
              <a:lnSpc>
                <a:spcPct val="95000"/>
              </a:lnSpc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788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666a"/>
                </a:solidFill>
                <a:latin typeface="Arial"/>
              </a:rPr>
              <a:t>What is means for pharmacies and PBMs</a:t>
            </a:r>
            <a:endParaRPr b="0" lang="en-US" sz="18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4"/>
          <p:cNvSpPr/>
          <p:nvPr/>
        </p:nvSpPr>
        <p:spPr>
          <a:xfrm>
            <a:off x="8458200" y="6558120"/>
            <a:ext cx="4572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A048-A094-4B28-8FEA-6B9B4D6DB30D}" type="slidenum">
              <a:rPr b="0" lang="en-US" sz="10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What is the 340B Program?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028520"/>
            <a:ext cx="8458200" cy="29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666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3666a"/>
                </a:solidFill>
                <a:latin typeface="Arial"/>
              </a:rPr>
              <a:t>Federally-sponsored provision added to VHCA in 1992: 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46840" indent="-213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</a:rPr>
              <a:t>Designed to provide affordable drug access to at-risk populations via Qualified Entities (QE):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46840" indent="-213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Includes Disproportionate Share Hospitals (DSH), Critical Access Hospitals (CAH), Federally Qualified Health Centers (FQHC)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The 340B business model: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46840" indent="-213120">
              <a:lnSpc>
                <a:spcPct val="75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Targets low-income/indigent families and individuals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46840" indent="-213120">
              <a:lnSpc>
                <a:spcPct val="75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Allows QE’s to receive drugs at heavily discounted prices (average 51% of wholesale price)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46840" indent="-213120">
              <a:lnSpc>
                <a:spcPct val="75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Generates revenues for QE’s via the price spread between 340B and network pricing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46840" indent="-213120">
              <a:lnSpc>
                <a:spcPct val="75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Specified a 1:1 ratio of QE to specific contracted pharmacy (typically in-house)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666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3666a"/>
                </a:solidFill>
                <a:latin typeface="Arial"/>
              </a:rPr>
              <a:t>Prior to PPACA, 340B was a niche with limited access, specific eligibility and operational requirements: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46840" indent="-213120">
              <a:lnSpc>
                <a:spcPct val="75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Mandatory segregation of 340B versus non-340B drug inventories 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46840" indent="-213120">
              <a:lnSpc>
                <a:spcPct val="75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Physical drug inventories must be on-site and maintained separately from non-340B drugs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46840" indent="-213120">
              <a:lnSpc>
                <a:spcPct val="75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Only available to employees of qualified entities and eligible patients of record of QE-employed providers 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46840" indent="-213120">
              <a:lnSpc>
                <a:spcPct val="75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Separate records for claims processing, patient files and data increased the difficulty for hospitals to participate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46840" indent="0">
              <a:lnSpc>
                <a:spcPct val="75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</p:txBody>
      </p:sp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676440" y="4494240"/>
            <a:ext cx="3473280" cy="2224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333440" y="4390920"/>
            <a:ext cx="2362320" cy="438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4997520" y="4165560"/>
            <a:ext cx="3593880" cy="2301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4"/>
          <a:stretch/>
        </p:blipFill>
        <p:spPr>
          <a:xfrm>
            <a:off x="1295280" y="4181400"/>
            <a:ext cx="2971800" cy="1778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"/>
          <p:cNvSpPr/>
          <p:nvPr/>
        </p:nvSpPr>
        <p:spPr>
          <a:xfrm>
            <a:off x="1828800" y="4098960"/>
            <a:ext cx="198108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3666a"/>
                </a:solidFill>
                <a:latin typeface="Arial"/>
              </a:rPr>
              <a:t>340B Program Overview</a:t>
            </a:r>
            <a:endParaRPr b="0" lang="en-US" sz="1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95880" y="4095720"/>
            <a:ext cx="19814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3666a"/>
                </a:solidFill>
                <a:latin typeface="Arial"/>
              </a:rPr>
              <a:t>The 340B Discount</a:t>
            </a:r>
            <a:endParaRPr b="0" lang="en-US" sz="10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4"/>
          <p:cNvSpPr/>
          <p:nvPr/>
        </p:nvSpPr>
        <p:spPr>
          <a:xfrm>
            <a:off x="8458200" y="6558120"/>
            <a:ext cx="4572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0F82-0547-4469-94AC-AC314716910E}" type="slidenum">
              <a:rPr b="0" lang="en-US" sz="10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340B Program Size, Impact and Importance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019160"/>
            <a:ext cx="845820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3666a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63666a"/>
                </a:solidFill>
                <a:latin typeface="Arial"/>
              </a:rPr>
              <a:t>340B market has experienced significant growth in patient encounters due to a number of factors: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High unemployment + poor job market have driven millions of consumers to Federally Qualified Health Centers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State and Federal administration significantly increased funding for community healthcare to increase access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In 2010, 340B qualified entities had approx. 260 M outpatient encounters averaging of 2.2 scripts/patient encounter 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3666a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63666a"/>
                </a:solidFill>
                <a:latin typeface="Arial"/>
              </a:rPr>
              <a:t>HCR modified a number of 340B rules to increase access and coverage for the eligible 340B population: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Expanded list of qualified entities across the DSH and Federally Qualified Health Centers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Recently expanded eligible entities: Children’s Hospitals, American Indian Tribes, Ryan White AIDS Centers, plus others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Revised the QE-to-contracted pharmacy ratio from 1:1 to 1:Unlimited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Allowed for “virtual” versus “physical” inventories of 340B drug supplies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3666a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63666a"/>
                </a:solidFill>
                <a:latin typeface="Arial"/>
              </a:rPr>
              <a:t>Resulting market impact of HCR implementation: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340B drug purchases were over $6 billion in 2010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Script volumes have experienced tremendous growth and is expected to continue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2010 total estimated 340B script volume was over 566 million scripts, or 17.2% of the total estimated US script volume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lvl="1" marL="552600" indent="-215280">
              <a:lnSpc>
                <a:spcPct val="90000"/>
              </a:lnSpc>
              <a:spcAft>
                <a:spcPts val="476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By 2012 340B script volume is projected to double to 1.1 billion (per McKesson 2010)</a:t>
            </a: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3666a"/>
              </a:solidFill>
              <a:latin typeface="Arial"/>
            </a:endParaRPr>
          </a:p>
        </p:txBody>
      </p:sp>
      <p:graphicFrame>
        <p:nvGraphicFramePr>
          <p:cNvPr id="318" name="Object 8"/>
          <p:cNvGraphicFramePr/>
          <p:nvPr/>
        </p:nvGraphicFramePr>
        <p:xfrm>
          <a:off x="304920" y="4264200"/>
          <a:ext cx="415296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264200"/>
                    <a:ext cx="41529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 Box 11"/>
          <p:cNvSpPr/>
          <p:nvPr/>
        </p:nvSpPr>
        <p:spPr>
          <a:xfrm>
            <a:off x="5715360" y="4089240"/>
            <a:ext cx="197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3666a"/>
                </a:solidFill>
                <a:latin typeface="Arial"/>
              </a:rPr>
              <a:t>Projected 340B Script Volume</a:t>
            </a:r>
            <a:endParaRPr b="0" lang="en-US" sz="1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916560" y="4098960"/>
            <a:ext cx="301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3666a"/>
                </a:solidFill>
                <a:latin typeface="Arial"/>
              </a:rPr>
              <a:t>Growth of Contracted Pharmacy Arrangements</a:t>
            </a:r>
            <a:endParaRPr b="0" lang="en-US" sz="1000" spc="-1" strike="noStrike">
              <a:solidFill>
                <a:srgbClr val="63666a"/>
              </a:solidFill>
              <a:latin typeface="Arial"/>
            </a:endParaRPr>
          </a:p>
        </p:txBody>
      </p:sp>
      <p:pic>
        <p:nvPicPr>
          <p:cNvPr id="322" name="Picture 8" descr=""/>
          <p:cNvPicPr/>
          <p:nvPr/>
        </p:nvPicPr>
        <p:blipFill>
          <a:blip r:embed="rId3"/>
          <a:stretch/>
        </p:blipFill>
        <p:spPr>
          <a:xfrm>
            <a:off x="4800600" y="4262400"/>
            <a:ext cx="3716280" cy="19764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9"/>
          <p:cNvSpPr/>
          <p:nvPr/>
        </p:nvSpPr>
        <p:spPr>
          <a:xfrm>
            <a:off x="7391520" y="4400640"/>
            <a:ext cx="45720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3666a"/>
                </a:solidFill>
                <a:latin typeface="Arial"/>
              </a:rPr>
              <a:t>1,100M</a:t>
            </a:r>
            <a:endParaRPr b="0" lang="en-US" sz="8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5867280" y="5135400"/>
            <a:ext cx="45720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3666a"/>
                </a:solidFill>
                <a:latin typeface="Arial"/>
              </a:rPr>
              <a:t>566M</a:t>
            </a:r>
            <a:endParaRPr b="0" lang="en-US" sz="8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7391520" y="6173640"/>
            <a:ext cx="45720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3666a"/>
                </a:solidFill>
                <a:latin typeface="Arial"/>
              </a:rPr>
              <a:t>2012</a:t>
            </a:r>
            <a:endParaRPr b="0" lang="en-US" sz="8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5867280" y="6191280"/>
            <a:ext cx="45720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3666a"/>
                </a:solidFill>
                <a:latin typeface="Arial"/>
              </a:rPr>
              <a:t>2010</a:t>
            </a:r>
            <a:endParaRPr b="0" lang="en-US" sz="8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8458200" y="6558120"/>
            <a:ext cx="4572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3627-CEF5-45EC-9357-829673EB287E}" type="slidenum">
              <a:rPr b="0" lang="en-US" sz="10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4962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340B Market – What’s the Attraction?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031760"/>
            <a:ext cx="837072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666a"/>
                </a:solidFill>
                <a:latin typeface="Arial"/>
              </a:rPr>
              <a:t>Continued growth of Qualified Entities (QE):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Currently over 15,000 QE’s across the US and US territories, up from 14,000 QE’s in 2010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California alone has over 10% (1,500) of all QE’s 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DSH, Critical Access Hospitals and Federally Qualified Health Centers facilities represent over 80% of all qualified entities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dd0d2b"/>
                </a:solidFill>
                <a:uFillTx/>
                <a:latin typeface="Arial"/>
                <a:ea typeface="ＭＳ Ｐゴシック"/>
              </a:rPr>
              <a:t>340B program does not discriminate</a:t>
            </a:r>
            <a:r>
              <a:rPr b="1" i="1" lang="en-US" sz="1200" spc="-1" strike="noStrike">
                <a:solidFill>
                  <a:srgbClr val="dd0d2b"/>
                </a:solidFill>
                <a:latin typeface="Arial"/>
                <a:ea typeface="ＭＳ Ｐゴシック"/>
              </a:rPr>
              <a:t>;</a:t>
            </a: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 anyone who meets eligibility requirements can access 340B drug prices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666a"/>
                </a:solidFill>
                <a:latin typeface="Arial"/>
              </a:rPr>
              <a:t>Program is difficult to understand and even harder to administer, manage: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Competition is fragmented and no large competitors currently in this space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A number of companies provide consulting services and/or program administration, management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340B may not be compatible with standard PBM business models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</a:rPr>
              <a:t>Growth in this market would likely increase attraction by various companies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666a"/>
                </a:solidFill>
                <a:latin typeface="Arial"/>
              </a:rPr>
              <a:t>Significant increase reported in RFP’s containing 340B requirements: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</a:rPr>
              <a:t>Entities are looking for ways to increase their revenue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</a:rPr>
              <a:t>RFP’s are being received from 340B QE’s plus prospective clients looking for added capabilities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</a:rPr>
              <a:t>Majority of Public Sector and Medicaid RFP’s (80-100%) include 340B requirements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Many RFP’s show lack of knowledge on 340B specifics and qualifications; many RFP requestors do not qualify for 340B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3666a"/>
                </a:solidFill>
                <a:latin typeface="Arial"/>
              </a:rPr>
              <a:t>Potential market risks for future considerations: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</a:rPr>
              <a:t>Changes in legislation may impact 340B program and discounts: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2" marL="914400" indent="-23004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</a:rPr>
              <a:t>OptumRx believes there is no current legislative activity significantly impacting the 340B market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1" marL="569880" indent="-22212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</a:rPr>
              <a:t>Increased access and participation may drive Pharma to reconsider participation and/or pricing: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2" marL="914400" indent="-23004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</a:rPr>
              <a:t>This is a Federally sponsored program; unsure whether Pharma will object to small % of their overall sales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lvl="2" marL="914400" indent="-230040">
              <a:lnSpc>
                <a:spcPct val="80000"/>
              </a:lnSpc>
              <a:spcAft>
                <a:spcPts val="524"/>
              </a:spcAft>
              <a:buClr>
                <a:srgbClr val="d45d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666a"/>
                </a:solidFill>
                <a:latin typeface="Arial"/>
                <a:ea typeface="ＭＳ Ｐゴシック"/>
              </a:rPr>
              <a:t>Trend shifts towards Specialty drug development may cause shift in program design</a:t>
            </a: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340B Market – Implications for Tribes?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Ability to take advantage of 340b pricing without a tribal pharmacy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437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No rebates paid on 340b drugs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437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Tribes need contract with wholesaler and have agreements with each pharmacy they intend to fill 340b scripts with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437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May want to consider a 340b-facilitation vendor to handle: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Patient eligibility verification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Virtual inventory control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Automated reporting and auditing requirements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437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Even though eligible by Tribal status, still need to register with Health Resources and Services  Administration (HRSA): Office of Pharmacy Affairs (OPA)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lvl="1" marL="509760" indent="-227160">
              <a:lnSpc>
                <a:spcPct val="95000"/>
              </a:lnSpc>
              <a:spcAft>
                <a:spcPts val="876"/>
              </a:spcAft>
              <a:buClr>
                <a:srgbClr val="636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http://opanet.hrsa.gov/opa/default.aspx 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8381880" y="6580080"/>
            <a:ext cx="30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B3A1-9392-4717-945E-3B1876248ED1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5400" y="152280"/>
            <a:ext cx="822636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66a"/>
                </a:solidFill>
                <a:latin typeface="Arial"/>
              </a:rPr>
              <a:t>340B Market – Implication to Pharmacies/PBMs?</a:t>
            </a:r>
            <a:endParaRPr b="1" lang="en-US" sz="24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960120"/>
            <a:ext cx="8228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Limited or no “spread” revenue on 340b drugs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Pharmacies may charge a large dispense fee 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PBMs may require an administration fee (for full pass-through of the 340b discount)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spcAft>
                <a:spcPts val="876"/>
              </a:spcAft>
              <a:buClr>
                <a:srgbClr val="d45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66a"/>
                </a:solidFill>
                <a:latin typeface="Arial"/>
              </a:rPr>
              <a:t>Few, if any, PBMs currently engaged in “340b verification” processes</a:t>
            </a:r>
            <a:endParaRPr b="0" lang="en-US" sz="2000" spc="-1" strike="noStrike">
              <a:solidFill>
                <a:srgbClr val="63666a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8381880" y="6580080"/>
            <a:ext cx="30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F983-56E0-4649-86EF-F1D061A951AD}" type="slidenum">
              <a:rPr b="0" lang="en-US" sz="800" spc="-1" strike="noStrike">
                <a:solidFill>
                  <a:srgbClr val="63666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63666a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21:53:26Z</dcterms:created>
  <dc:creator>qw qw</dc:creator>
  <dc:description/>
  <dc:language>en-US</dc:language>
  <cp:lastModifiedBy>Tyler Moore</cp:lastModifiedBy>
  <cp:lastPrinted>2011-02-25T23:07:52Z</cp:lastPrinted>
  <dcterms:modified xsi:type="dcterms:W3CDTF">2012-04-17T17:53:01Z</dcterms:modified>
  <cp:revision>201</cp:revision>
  <dc:subject/>
  <dc:title>PowerPoint Presentation</dc:title>
</cp:coreProperties>
</file>