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EA0-15F3-4B5A-BF8D-8E5D42C6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682-B5AB-4F74-AEE9-FB386694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2EE-A7BD-470C-8075-B0450077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CB2-04CA-4D16-B53C-AE6D4AF5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8DB-B771-4A32-B6BF-06E2D069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8EF-E097-4995-99E4-C1687BCF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6F1-1980-4A80-BE04-03075A62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F50-320A-4BDD-ACA1-9C7EEEDD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707-D791-42E1-9F5B-1CA82903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F6C-D8B0-43B5-9BD9-A4BFC8A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F3A-6FE8-4C1E-9091-6C7A55D3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587-EE94-4BE9-82ED-CC3DB276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AE63-99A1-451B-9AE1-3B0FC8632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ihslogo2"/>
          <p:cNvPicPr/>
          <p:nvPr/>
        </p:nvPicPr>
        <p:blipFill>
          <a:blip r:embed="rId2"/>
          <a:stretch/>
        </p:blipFill>
        <p:spPr>
          <a:xfrm>
            <a:off x="8282160" y="0"/>
            <a:ext cx="861840" cy="847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HHS"/>
          <p:cNvPicPr/>
          <p:nvPr/>
        </p:nvPicPr>
        <p:blipFill>
          <a:blip r:embed="rId3"/>
          <a:stretch/>
        </p:blipFill>
        <p:spPr>
          <a:xfrm>
            <a:off x="0" y="0"/>
            <a:ext cx="82872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hs.gov/RPMS/Index.cfm?module=Training&amp;option=ViewSCH&amp;CSID=1209&amp;ClassID=3104" TargetMode="External"/><Relationship Id="rId2" Type="http://schemas.openxmlformats.org/officeDocument/2006/relationships/hyperlink" Target="http://www.ihs.gov/RPMS/Index.cfm?module=Training&amp;option=ViewSCH&amp;CSID=1209&amp;ClassID=3104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eggy.ollgaard@ihs.go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hs.gov/icd10/" TargetMode="External"/><Relationship Id="rId2" Type="http://schemas.openxmlformats.org/officeDocument/2006/relationships/hyperlink" Target="http://www.ihs.gov/listserver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land Area ICD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ggy Ollga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8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Levels of Tr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U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formance improvement, quality management, case management, utilization review, researchers, epidemiologist, data mangers, patient registration, ancillary staff, public health nur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– clinician, physician, family nurse practitioner, physician assistant, certified mid-wife, advance practice n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ve Co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coder, biller, document improvement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Pl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No Fear, ICD-10 Is He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2- 24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Code Set Versioning (C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books, draft or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an invitation for training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ihs.gov/RPMS/Index.cfm?module=Training&amp;option=ViewSCH&amp;CSID=1209&amp;ClassID=3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Pl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pps.who.int/classifications/apps/icd/cid10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Health Information Management Association (AHI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hima.or/coninuinged/defaul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s for Medicare and Medicaid Services (C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ms.gov/icd10/05a_ProviderResource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Academy of Professional Coders (AA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apc.com/ICD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PC  ICD-9 to ICD-10 Code Trans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apc.com/ICD-10/cod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Minnesota  Anatomy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sjensen.cehd.umn.edu/webanatomy/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P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s required to RPMS to support the conversion to ICD-10 are extensive.  It is likely that multiple patches will need to be installed throughout the implementation process.  It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PMS applications are up to date with all applications and patches, including security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s using COTS systems should contact their vendors to ensure an implementation plan is in place and work closely with them to assess impact to your fac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ggy Ollga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3.414.559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ggy.ollgaard@ihs.go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1 Pl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r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011 through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/Facility 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8839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ggy Ollgaard, Business Office Coordinator, P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Battese, IT Specialist, P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ie Lee, M.D., Area Diabetes Consultant, P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ey Won, PharmD, CAC/Area Pharmacist, P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/Facility Coordin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l Dial, BS Pharmacy RPh - Area Pharmacy / Electronic Health Record Consul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 Prevost, RN MHSA, CEO Warm Springs 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 Furniss, Health Systems Specialist, Ft. Hall 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a Charlie, IT Specialist, P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/Facility Coordin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of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ar Tribal Leader’s letter from the Area Director dated January 20, 2012, asked that each site name an ICD-10 point of contact.  This designee will receive all information related to implementation, including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to: Peggy Ollgaard 503.414.55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ggy.ollgaard@ih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CD-10 Meetings/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it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hs.gov/icd1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erv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hs.gov/listserv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/External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and Operational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al workflow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Assessmen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and payer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TS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Assessmen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land Area Team sent out an Impact/Rediness Assessment to all Points of Contact on April 6, 2012.  This will give us an idea of the local efforts sites are making toward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ssments will be repeated as we move forward with changes related to ICD-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53:25Z</dcterms:created>
  <dc:creator>Terry Dean</dc:creator>
  <dc:description/>
  <dc:language>en-US</dc:language>
  <cp:lastModifiedBy>Ollgaard, Peggy (IHS/POR)</cp:lastModifiedBy>
  <dcterms:modified xsi:type="dcterms:W3CDTF">2012-04-06T15:44:00Z</dcterms:modified>
  <cp:revision>55</cp:revision>
  <dc:subject/>
  <dc:title>Slide 1</dc:title>
</cp:coreProperties>
</file>