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523880" y="685440"/>
            <a:ext cx="4229280" cy="270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Click to move the slide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3657600"/>
            <a:ext cx="5851440" cy="54864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41D36E5-7184-4418-B27C-A9A000C63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833480" y="685800"/>
            <a:ext cx="3610080" cy="2708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3657600"/>
            <a:ext cx="5851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258F0CD-1F1E-4986-AD24-50722ABBB629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833480" y="685800"/>
            <a:ext cx="3610080" cy="2708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3657600"/>
            <a:ext cx="5851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0A70FD5-FD56-428E-851D-5D62E61CC3C6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833480" y="685800"/>
            <a:ext cx="3610080" cy="2708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3657600"/>
            <a:ext cx="5851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06BDAD6-DE8B-4902-9D6F-B5C360799ED9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833480" y="685800"/>
            <a:ext cx="3610080" cy="2708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3657600"/>
            <a:ext cx="5851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B0F6BBF-F99C-47EE-8779-C9F00F9D1498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3EE1-703B-4FDA-B308-A17A456D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710D-F71E-452D-ABAC-218C2876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A1AC-D526-4233-A3C1-3CFCC770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F82E-AE7B-4BFE-B373-D059AE6E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0ECE1-B144-4FD0-9C8E-91B0DAF7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CF7D0-12A7-4128-8732-27F16DD6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3E47B-6D0C-48F8-9DC0-5221A3DD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73F1-E466-449D-8F72-5D2EADEE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8FD1B-8104-411E-995C-AD4E7F8E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43E4C-8E18-4D57-AA49-95FCE36B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377C1-F382-4A4F-9A7A-4B624FE4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5EF4-7305-4147-B2AF-D2F53292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77CAD-8E11-4425-A859-3B20A7CD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13BD5-D741-439A-96C4-1740211D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AE77E-8896-4F2C-8D38-641F9777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04B86-B18E-40F5-945A-9DE001CA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FDE41-D781-4D49-BDFD-9BE4D3C2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3167-E052-4FB8-B4C2-BF10A075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E26A-E0E1-464D-A4C6-AE0EAFC7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5797-A9A7-4431-94ED-69B181BD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14E7-62E5-43D8-8196-6C37E01C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AE20-4808-4292-9ECD-FBC97A67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1BA2-C898-4ABE-89E7-E4826DB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019E-1D24-46EE-A093-73DD7BBB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c6d8"/>
            </a:gs>
            <a:gs pos="100000">
              <a:srgbClr val="ffd0b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" name="Picture 14" descr="14BORG"/>
          <p:cNvPicPr/>
          <p:nvPr/>
        </p:nvPicPr>
        <p:blipFill>
          <a:blip r:embed="rId2"/>
          <a:stretch/>
        </p:blipFill>
        <p:spPr>
          <a:xfrm>
            <a:off x="0" y="0"/>
            <a:ext cx="4651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badi MT Condensed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FEB3-8845-4721-AE06-1A6F81C63943}" type="datetime">
              <a:rPr b="0" lang="en-US" sz="1000" spc="-1" strike="noStrike">
                <a:solidFill>
                  <a:srgbClr val="000000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badi MT Condensed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C3F9-1E1C-4B3A-B95D-46124C332176}" type="slidenum">
              <a:rPr b="0" lang="en-US" sz="1000" spc="-1" strike="noStrike">
                <a:solidFill>
                  <a:srgbClr val="000000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2209680" y="6356520"/>
            <a:ext cx="518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badi MT Condensed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badi MT Condensed Light"/>
              </a:rPr>
              <a:t>PowerPoint slide layout by Red Wind Consulting, Inc. and clip art by RT Computer Graphics, Plains 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c6d8"/>
            </a:gs>
            <a:gs pos="100000">
              <a:srgbClr val="ffd0b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6" name="Picture 9" descr="14BORG"/>
          <p:cNvPicPr/>
          <p:nvPr/>
        </p:nvPicPr>
        <p:blipFill>
          <a:blip r:embed="rId2"/>
          <a:stretch/>
        </p:blipFill>
        <p:spPr>
          <a:xfrm>
            <a:off x="0" y="0"/>
            <a:ext cx="465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3333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Abadi MT Condensed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7759-972C-470F-9EAB-8A6B86DA32D1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Abadi MT Condensed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35A6-DC22-464F-B390-278B578A8780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2209680" y="6356520"/>
            <a:ext cx="518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Abadi MT Condensed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PowerPoint slide layout by Red Wind Consulting, Inc. and clip art by RT Computer Graphics, Plains 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6108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Themes: Tribe #2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Drug &amp; Alcohol &amp; Youth Violen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Pedestrian &amp; Bicycle Safe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ultural Traditions &amp; Ceremoni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ports &amp; Fitness Opportuniti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od &amp; Beverage Op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nvironmental Pollu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EA99-A4C3-4CC4-A494-AF7DA61AD338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90CC-533B-425F-8DB2-F697BAD0A4A7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8B87-352B-4657-9330-6C14BE5D56D4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3C54-0CB2-424F-93D6-AE1C52AA12E4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505320" y="428760"/>
            <a:ext cx="2330280" cy="174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6095880" y="55728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3425760" y="4334040"/>
            <a:ext cx="2262240" cy="1693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558720" y="366840"/>
            <a:ext cx="2505240" cy="187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685800" y="2693880"/>
            <a:ext cx="1967040" cy="2617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6"/>
          <a:stretch/>
        </p:blipFill>
        <p:spPr>
          <a:xfrm>
            <a:off x="6418440" y="3019320"/>
            <a:ext cx="2124000" cy="285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7"/>
          <a:stretch/>
        </p:blipFill>
        <p:spPr>
          <a:xfrm>
            <a:off x="3316320" y="2338560"/>
            <a:ext cx="248112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30592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Youth Suggestions: Tribe #2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7000" y="121896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Take down alcohol advertisements in local store and rearrange beverage section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Increase police surveillance of partying in public places (at parks and abandoned houses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Increase awareness of the poor state of elementary school playgrounds by informing school, parents, community, and city hall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Promote the benefits of water to the community, offer deals on bottled water at local store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ut more sidewalks and bike lanes around the community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wer the speed limit around town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rganize a community clean-up of the local river by the bridge/old dam area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wer the price to dump garbage in order to encourage people to take their trash to the dump and not the rive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905-B5AC-491D-92C0-1A2BB647A1FA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4A2F-5969-41B1-B557-9D8474905552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Final Step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Present findings to respective Tribal Council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Implement youth suggestions with additional grant funding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38E3-4CFC-4959-A673-BD871EADDB35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AC43-2C27-4E40-B753-8B74CAF3C740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b0506"/>
                </a:solidFill>
                <a:uFillTx/>
                <a:latin typeface="Comic Sans MS"/>
              </a:rPr>
              <a:t>Questions?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pic>
        <p:nvPicPr>
          <p:cNvPr id="156" name="Content Placeholder 3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471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Introduction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Empowering Native Youth to Engage in Policy Change Addressing Nutrition &amp; Physical Fitness project engages Native high school students in two Oregon tribal communities to lead student‐driven nutrition and physical fitness policy change within their local communitie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ject Staff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arrie Sampson (Umatilla), Project Coordinato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Victoria Warren-Mears, Project Directo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tephanie Farquhar, Principle Investigator, Portland State Univers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Project funded by the Northwest Health Found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C74C-8873-4932-8FB7-99F7CF88A4F0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9028-256C-4686-9259-4F148CC6B365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E42D-1FBA-421E-A462-CCF65D8EB1A8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B898-A2D5-45CF-80D0-D9F16D1AC983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Project Goal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research process and resultant policies will contribute to improvements in nutrition and reductions in the prevalence of overweight and obesity in these two Oregon Tribal communiti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Project Objectives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2120" y="12189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499"/>
              </a:spcBef>
              <a:buClr>
                <a:srgbClr val="0b0506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gage tribal youth from 2 Oregon Tribes in exploring their perceived barriers to good nutrition and physical fitness in their communiti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b0506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gage tribal youth from 2 Oregon Tribes in exploring their perceived community assets which could be leveraged to support good nutrition and physical fitness in their communiti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b0506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evelop a conceptual framework of the environmental, ecological and social realities impacting nutrition and physical fitness in their communiti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b0506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gage tribal and school decision makers in reviewing findings with youth in order to identify opportunities to initiate steps toward developing culturally appropriate policy interven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2788-F395-4471-9BCD-1F9F067A842D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30DB-6667-4FF2-8237-32BBC6EDE120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A3C8-218F-415C-9AF9-D508D020D182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551D-A80A-4E92-A4FC-BB9845EE8807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2189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rom 2011-2012, 19 youth were recruited from 2 Oregon Tribes and trained in Photovoice techniqu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24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hotovoice is a technique that enables community residents of all ages to share information about their communities through picture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24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ticipants benefit from Photovoice, as they’re able to speak about the issues that are bothering them, connect with others in the community, and advocate for chang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24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ject participants then met for two photo discussion sessions. Using the SHOWED inductive questioning technique, students summarized what they saw/what was happening in each photo, why they thought the problem existed, and their suggestions for possible solution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Methods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Analysis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scussion sessions were recorded, transcribed, and analyzed using qualitative Atlas.ti software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ject team members used an inductive approach consisting of open, axial, and selective coding to extract broad themes and show the role of nutrition and physical fitness in each communit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4F99-671C-45DA-9458-ED416A87A65D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E5AE-7A8D-467E-9330-EE5E97D3B572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Themes: Tribe #1 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od &amp; Beverage Op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ports &amp; Fitness Opportuniti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nvironmental Pollu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Graffiti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obacco &amp; Alcoho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oad &amp; Pedestrian Safe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tray Animal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34F9-99CD-4B63-A3A0-2512DCCEB747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5973-00B5-4F5B-9071-1F488FCDB892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6947-37D8-44EB-BFFC-AFCA11411682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8BAE-E21E-4B56-992D-590D25D21D78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33600" y="304920"/>
            <a:ext cx="2833560" cy="211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153040" y="3049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3"/>
          <a:stretch/>
        </p:blipFill>
        <p:spPr>
          <a:xfrm>
            <a:off x="3505320" y="3095640"/>
            <a:ext cx="2765160" cy="206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6477120" y="2552760"/>
            <a:ext cx="2257200" cy="1684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5"/>
          <a:stretch/>
        </p:blipFill>
        <p:spPr>
          <a:xfrm>
            <a:off x="787320" y="4191120"/>
            <a:ext cx="2506680" cy="1882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6"/>
          <a:stretch/>
        </p:blipFill>
        <p:spPr>
          <a:xfrm>
            <a:off x="6477120" y="4368960"/>
            <a:ext cx="2257200" cy="170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7"/>
          <a:stretch/>
        </p:blipFill>
        <p:spPr>
          <a:xfrm>
            <a:off x="1011240" y="2562120"/>
            <a:ext cx="19922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506"/>
                </a:solidFill>
                <a:latin typeface="Arial Rounded MT Bold"/>
              </a:rPr>
              <a:t>Youth Suggestions: Tribe #1</a:t>
            </a:r>
            <a:endParaRPr b="0" lang="en-US" sz="4000" spc="-1" strike="noStrike">
              <a:solidFill>
                <a:srgbClr val="0b0506"/>
              </a:solidFill>
              <a:latin typeface="Arial Rounded MT Bol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2189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ffer healthier choices in vending machines around the communit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crease access to fresh fruits and vegetables by selling them at local stores and planting more community garden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ean-up, replace old equipment, and improve the safety of local parks and playground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stall more garbage and recycling receptacles in the community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crease police enforcement of littering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stall more ashtrays, put up more ‘no smoking’ signs, and increase fines for littering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ffer a designated wall space for kids to paint and draw in park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stall lights and crosswalks in four-way intersections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mote animal adoption and encourage community members to take better care of their anima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b050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914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52E6-5A7D-4B9B-820B-386F4EE2664E}" type="datetime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07/30/26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784872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B026-387E-4346-A609-CD40CB725B4B}" type="slidenum"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209680" y="6356520"/>
            <a:ext cx="518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badi MT Condensed Light"/>
              </a:rPr>
              <a:t>PowerPoint slide layout by Red Wind Consulting, Inc. and clip art by RT Computer Graphics, Plains Collectio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50:27Z</dcterms:created>
  <dc:creator>Victoria Lucia Ybanez</dc:creator>
  <dc:description/>
  <dc:language>en-US</dc:language>
  <cp:lastModifiedBy>Carrie Sampson</cp:lastModifiedBy>
  <dcterms:modified xsi:type="dcterms:W3CDTF">2013-01-18T21:29:32Z</dcterms:modified>
  <cp:revision>77</cp:revision>
  <dc:subject/>
  <dc:title>PowerPoint Presentation  -  Slide 1</dc:title>
</cp:coreProperties>
</file>