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pyru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pyru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pyru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Papyrus"/>
              </a:rPr>
              <a:t>Click to move the slide</a:t>
            </a:r>
            <a:endParaRPr b="1" lang="en-US" sz="4400" spc="-1" strike="noStrike">
              <a:solidFill>
                <a:srgbClr val="ffff99"/>
              </a:solidFill>
              <a:latin typeface="Papyru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pyru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28BEE1C-D9A3-4F4D-940B-578380069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pyru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8E31AFD-9A72-4C38-BF86-ABACE8DD708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pyru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DE1C812-0EE8-422A-84F0-E7B965945C3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pyru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62691CB-1265-4B1D-8703-A04A423749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pyru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D74ED95-4FD0-4BC4-87E0-A564F3EB047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pyru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65320" y="687240"/>
            <a:ext cx="4681440" cy="35118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34560" y="4427280"/>
            <a:ext cx="5140440" cy="41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C3D564A-2EDF-454E-8C46-8D071AA8E5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pyru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4257F-BAAC-422F-A071-FDD1D0CC22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Papyru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4B549-119E-4846-A8F3-31BF87EE47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Papyru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ED900-9602-4A70-8AA3-F6B300AE06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Papyru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37AC6-97C2-4049-9CAA-81AADF9E4F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16F84A-AEB1-4921-A1C8-6B8EC2E08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Papyru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8FDC8A-88DE-4600-937A-CB9E9F763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Papyru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7303F0-F853-4CEE-8F06-62D9DDFC8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Papyru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B8BDB1-46C1-4E48-98F7-38F73146B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Papyru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721BC1-B6E5-4EF1-908D-7D1363929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676160" y="2743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BF104F-6B74-4FC4-AFCB-E7C5092E8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Papyru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58C9DE-BF04-4B88-9BD5-773D5CE3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Papyru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50544-E34D-4203-B83F-4FE3B17518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Papyru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16441F-F83F-4DAC-922F-99D4C70B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Papyru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8356E4-2948-43B6-B312-B8A1138F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Papyru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8D62CD-F2A9-4BCD-9651-ED42BA995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Papyru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D70752-9CBE-4532-A104-2964DC3FF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Papyru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8492EF-6041-4DC5-9105-9784A8863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Papyru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16FBB-34B7-4D5B-B748-67FC7EB446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Papyru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11540-B618-4257-8D0C-6B151931A2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Papyru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0F85F-DA14-4C45-8CE9-4447984D1C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676160" y="2743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C029D-8EE4-4580-B8E0-F092C49000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Papyru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B3644-4EB2-4A9D-9ADF-089D61AA40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Papyru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3F4C0-58D5-4AD4-A200-5F220770C3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Papyru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B8720-8B3A-4F39-9E33-6D5A1BDD16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4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Papyrus"/>
              </a:rPr>
              <a:t>Click to edit the title text format</a:t>
            </a:r>
            <a:endParaRPr b="1" lang="en-US" sz="4400" spc="-1" strike="noStrike">
              <a:solidFill>
                <a:srgbClr val="ffff99"/>
              </a:solidFill>
              <a:latin typeface="Papyru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7984B-677E-4947-B777-7F1560B774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pyrus"/>
            </a:endParaRPr>
          </a:p>
        </p:txBody>
      </p:sp>
      <p:pic>
        <p:nvPicPr>
          <p:cNvPr id="3" name="Picture 7" descr="sm teal togo box no shadow"/>
          <p:cNvPicPr/>
          <p:nvPr/>
        </p:nvPicPr>
        <p:blipFill>
          <a:blip r:embed="rId2"/>
          <a:stretch/>
        </p:blipFill>
        <p:spPr>
          <a:xfrm>
            <a:off x="228600" y="228600"/>
            <a:ext cx="1152360" cy="99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4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7" descr="sm teal togo box no shadow"/>
          <p:cNvPicPr/>
          <p:nvPr/>
        </p:nvPicPr>
        <p:blipFill>
          <a:blip r:embed="rId2"/>
          <a:stretch/>
        </p:blipFill>
        <p:spPr>
          <a:xfrm>
            <a:off x="4038480" y="5178600"/>
            <a:ext cx="1067040" cy="91728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Papyrus"/>
              </a:rPr>
              <a:t>Click to edit the title text format</a:t>
            </a:r>
            <a:endParaRPr b="1" lang="en-US" sz="4400" spc="-1" strike="noStrike">
              <a:solidFill>
                <a:srgbClr val="ffff99"/>
              </a:solidFill>
              <a:latin typeface="Papyru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pyru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pyru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F4E75-B052-4836-82A3-E60F85BBC7A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pyru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Papyrus"/>
              </a:rPr>
              <a:t>Western Tribal Diabetes Project</a:t>
            </a:r>
            <a:endParaRPr b="1" lang="en-US" sz="3600" spc="-1" strike="noStrike">
              <a:solidFill>
                <a:srgbClr val="ffff99"/>
              </a:solidFill>
              <a:latin typeface="Papyrus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-152280" y="1676520"/>
            <a:ext cx="349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 DMS Train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are, EHR, Qman, visual D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5 tribal participants trai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off site / remo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nds on interactive instr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867280" y="1828800"/>
            <a:ext cx="3353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5 tribal site visi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50 technical assistance c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 Project Presen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4" descr="Picture 074.jpg"/>
          <p:cNvPicPr/>
          <p:nvPr/>
        </p:nvPicPr>
        <p:blipFill>
          <a:blip r:embed="rId1"/>
          <a:stretch/>
        </p:blipFill>
        <p:spPr>
          <a:xfrm>
            <a:off x="3419640" y="1981080"/>
            <a:ext cx="2523960" cy="40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1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Papyrus"/>
              </a:rPr>
              <a:t>Partners</a:t>
            </a:r>
            <a:endParaRPr b="1" lang="en-US" sz="4400" spc="-1" strike="noStrike">
              <a:solidFill>
                <a:srgbClr val="ffff99"/>
              </a:solidFill>
              <a:latin typeface="Papyrus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105520" y="914040"/>
            <a:ext cx="4038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fice of information and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ertise training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rtland Area I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ive American Fitness Counc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rcRect l="0" t="0" r="52941" b="45455"/>
          <a:stretch/>
        </p:blipFill>
        <p:spPr>
          <a:xfrm>
            <a:off x="3276720" y="2286000"/>
            <a:ext cx="1828800" cy="27432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5"/>
          <p:cNvSpPr/>
          <p:nvPr/>
        </p:nvSpPr>
        <p:spPr>
          <a:xfrm>
            <a:off x="76320" y="1523880"/>
            <a:ext cx="327636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(body)"/>
              </a:rPr>
              <a:t>National Diabetes &amp; Prevention Program</a:t>
            </a:r>
            <a:endParaRPr b="0" lang="en-US" sz="2600" spc="-1" strike="noStrike">
              <a:solidFill>
                <a:srgbClr val="ffffff"/>
              </a:solidFill>
              <a:latin typeface="Papyru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apyru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(body)"/>
              </a:rPr>
              <a:t>Youth Project</a:t>
            </a:r>
            <a:endParaRPr b="0" lang="en-US" sz="2400" spc="-1" strike="noStrike">
              <a:solidFill>
                <a:srgbClr val="ffffff"/>
              </a:solidFill>
              <a:latin typeface="Papyru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pyru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(body)"/>
              </a:rPr>
              <a:t>National data team</a:t>
            </a:r>
            <a:endParaRPr b="0" lang="en-US" sz="2400" spc="-1" strike="noStrike">
              <a:solidFill>
                <a:srgbClr val="ffffff"/>
              </a:solidFill>
              <a:latin typeface="Papyru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pyru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(body)"/>
              </a:rPr>
              <a:t>DMS Web training all SDPI programs</a:t>
            </a:r>
            <a:endParaRPr b="0" lang="en-US" sz="2400" spc="-1" strike="noStrike">
              <a:solidFill>
                <a:srgbClr val="ffffff"/>
              </a:solidFill>
              <a:latin typeface="Papyru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apyru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(body)"/>
              </a:rPr>
              <a:t>Cimarron</a:t>
            </a:r>
            <a:endParaRPr b="0" lang="en-US" sz="2600" spc="-1" strike="noStrike">
              <a:solidFill>
                <a:srgbClr val="ffffff"/>
              </a:solidFill>
              <a:latin typeface="Papyru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apyru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Papyrus"/>
              </a:rPr>
              <a:t> </a:t>
            </a:r>
            <a:r>
              <a:rPr b="1" lang="en-US" sz="4400" spc="-1" strike="noStrike">
                <a:solidFill>
                  <a:srgbClr val="ffff99"/>
                </a:solidFill>
                <a:latin typeface="Papyrus"/>
              </a:rPr>
              <a:t>Partnerships – sub contracts</a:t>
            </a:r>
            <a:endParaRPr b="1" lang="en-US" sz="4400" spc="-1" strike="noStrike">
              <a:solidFill>
                <a:srgbClr val="ffff99"/>
              </a:solidFill>
              <a:latin typeface="Papyrus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 Healthy Commun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ine tribes in 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gregate report for cdc change too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icy development – tobacco, physical activity, and nutr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d Hutchinson Institu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ms Projec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merican Indian Multi-state stud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20 interviews cancer survivo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analysis in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Papyrus"/>
              </a:rPr>
              <a:t>Wtdp resources </a:t>
            </a:r>
            <a:endParaRPr b="1" lang="en-US" sz="4400" spc="-1" strike="noStrike">
              <a:solidFill>
                <a:srgbClr val="ffff99"/>
              </a:solidFill>
              <a:latin typeface="Papyrus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632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 cut and reference manual – dms cl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bal Health Status Re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339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ison report for standards of care tribe/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339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betes surveillance trends (seven yea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W Diabetes Aggregate Re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betes Screening Toolk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52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5" descr="Umatillpuppyandmama.jpg"/>
          <p:cNvPicPr/>
          <p:nvPr/>
        </p:nvPicPr>
        <p:blipFill>
          <a:blip r:embed="rId1"/>
          <a:stretch/>
        </p:blipFill>
        <p:spPr>
          <a:xfrm>
            <a:off x="5587920" y="1905120"/>
            <a:ext cx="3086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Papyrus"/>
              </a:rPr>
              <a:t>Total Patients in Register</a:t>
            </a:r>
            <a:endParaRPr b="1" lang="en-US" sz="4400" spc="-1" strike="noStrike">
              <a:solidFill>
                <a:srgbClr val="ffff99"/>
              </a:solidFill>
              <a:latin typeface="Papyrus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5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Papyrus"/>
              </a:rPr>
              <a:t>Blood pressure</a:t>
            </a:r>
            <a:endParaRPr b="1" lang="en-US" sz="4400" spc="-1" strike="noStrike">
              <a:solidFill>
                <a:srgbClr val="ffff99"/>
              </a:solidFill>
              <a:latin typeface="Papyrus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220680" y="1425600"/>
            <a:ext cx="8771040" cy="52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Papyrus"/>
              </a:rPr>
              <a:t>Hemoglobin  AIc</a:t>
            </a:r>
            <a:endParaRPr b="1" lang="en-US" sz="4400" spc="-1" strike="noStrike">
              <a:solidFill>
                <a:srgbClr val="ffff99"/>
              </a:solidFill>
              <a:latin typeface="Papyrus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-20520" y="1569960"/>
            <a:ext cx="9164520" cy="52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Papyrus"/>
              </a:rPr>
              <a:t>Tobacco Use</a:t>
            </a:r>
            <a:endParaRPr b="1" lang="en-US" sz="4400" spc="-1" strike="noStrike">
              <a:solidFill>
                <a:srgbClr val="ffff99"/>
              </a:solidFill>
              <a:latin typeface="Papyrus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0" y="1571760"/>
            <a:ext cx="903780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Papyrus"/>
              </a:rPr>
              <a:t>Tobacco Cessation</a:t>
            </a:r>
            <a:endParaRPr b="1" lang="en-US" sz="4400" spc="-1" strike="noStrike">
              <a:solidFill>
                <a:srgbClr val="ffff99"/>
              </a:solidFill>
              <a:latin typeface="Papyrus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76320" y="1447920"/>
            <a:ext cx="9104040" cy="51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Papyrus"/>
              </a:rPr>
              <a:t>Weight Control</a:t>
            </a:r>
            <a:endParaRPr b="1" lang="en-US" sz="4400" spc="-1" strike="noStrike">
              <a:solidFill>
                <a:srgbClr val="ffff99"/>
              </a:solidFill>
              <a:latin typeface="Papyrus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228600" y="1398600"/>
            <a:ext cx="8381880" cy="53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520" y="75960"/>
            <a:ext cx="7620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Papyrus"/>
              </a:rPr>
              <a:t>Western Tribal Diabetes Project</a:t>
            </a:r>
            <a:endParaRPr b="1" lang="en-US" sz="3200" spc="-1" strike="noStrike">
              <a:solidFill>
                <a:srgbClr val="ffff99"/>
              </a:solidFill>
              <a:latin typeface="Papyru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76320" y="1600200"/>
            <a:ext cx="5562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tivational interviewing- 2 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 tribal particip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tribes and 1 urban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rryl Tonemah - trai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y Business (2 training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tland – Spokan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5 particip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 – tribal progr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Box 11"/>
          <p:cNvSpPr/>
          <p:nvPr/>
        </p:nvSpPr>
        <p:spPr>
          <a:xfrm>
            <a:off x="1752480" y="9144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Papyrus"/>
              </a:rPr>
              <a:t>Activities </a:t>
            </a:r>
            <a:endParaRPr b="0" lang="en-US" sz="3200" spc="-1" strike="noStrike">
              <a:solidFill>
                <a:srgbClr val="ffffff"/>
              </a:solidFill>
              <a:latin typeface="Papyrus"/>
            </a:endParaRPr>
          </a:p>
        </p:txBody>
      </p:sp>
      <p:pic>
        <p:nvPicPr>
          <p:cNvPr id="108" name="Picture 6" descr="263 - Copy.JPG"/>
          <p:cNvPicPr/>
          <p:nvPr/>
        </p:nvPicPr>
        <p:blipFill>
          <a:blip r:embed="rId1"/>
          <a:stretch/>
        </p:blipFill>
        <p:spPr>
          <a:xfrm>
            <a:off x="5486400" y="1371600"/>
            <a:ext cx="3740040" cy="52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7920" y="15228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Papyrus"/>
              </a:rPr>
              <a:t>Native Fitness X July 30&amp;31</a:t>
            </a:r>
            <a:r>
              <a:rPr b="1" lang="en-US" sz="3600" spc="-1" strike="noStrike" baseline="30000">
                <a:solidFill>
                  <a:srgbClr val="ffff99"/>
                </a:solidFill>
                <a:latin typeface="Papyrus"/>
              </a:rPr>
              <a:t>st</a:t>
            </a:r>
            <a:r>
              <a:rPr b="1" lang="en-US" sz="3600" spc="-1" strike="noStrike">
                <a:solidFill>
                  <a:srgbClr val="ffff99"/>
                </a:solidFill>
                <a:latin typeface="Papyrus"/>
              </a:rPr>
              <a:t> 2013 </a:t>
            </a:r>
            <a:endParaRPr b="1" lang="en-US" sz="3600" spc="-1" strike="noStrike">
              <a:solidFill>
                <a:srgbClr val="ffff99"/>
              </a:solidFill>
              <a:latin typeface="Papyrus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494000"/>
            <a:ext cx="44956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W &amp; National Program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otivational Interview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aryl Tonema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ative specifi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source C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est practice, toolkits, fact sheets, diabetes dat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790960" y="990720"/>
            <a:ext cx="3733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tness activit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oot cam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erobic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alk Stro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ative gam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ik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lay on Native La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-7 produ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5" descr="DSC_0159 - Copy.JPG"/>
          <p:cNvPicPr/>
          <p:nvPr/>
        </p:nvPicPr>
        <p:blipFill>
          <a:blip r:embed="rId1"/>
          <a:stretch/>
        </p:blipFill>
        <p:spPr>
          <a:xfrm>
            <a:off x="0" y="4440240"/>
            <a:ext cx="914400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0T18:48:51Z</dcterms:created>
  <dc:creator>sbonnell</dc:creator>
  <dc:description/>
  <dc:language>en-US</dc:language>
  <cp:lastModifiedBy>Kerri Lopez</cp:lastModifiedBy>
  <dcterms:modified xsi:type="dcterms:W3CDTF">2013-07-08T17:54:17Z</dcterms:modified>
  <cp:revision>119</cp:revision>
  <dc:subject/>
  <dc:title>Slide 1</dc:title>
</cp:coreProperties>
</file>