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23960" y="5752800"/>
            <a:ext cx="8712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960" y="1193760"/>
            <a:ext cx="5232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3960" y="3835080"/>
            <a:ext cx="5232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3960" y="202680"/>
            <a:ext cx="87120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23960" y="2171520"/>
            <a:ext cx="4254480" cy="474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75276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109944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44612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179280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213948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213948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213948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23960" y="202680"/>
            <a:ext cx="87120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23960" y="2171520"/>
            <a:ext cx="8712000" cy="474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65160" indent="-6984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1409760" indent="-6984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854360" indent="-69876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2298600" indent="-6984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2743200" indent="-6984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2743200" indent="-6984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2743200" indent="-6984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23960" y="202680"/>
            <a:ext cx="87120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537160" y="2171520"/>
            <a:ext cx="3898800" cy="474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694800" indent="-502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1014840" indent="-502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334880" indent="-502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1654920" indent="-502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1974960" indent="-502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1974960" indent="-502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1974960" indent="-502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723960" y="2171520"/>
            <a:ext cx="4254480" cy="474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75276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109944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44612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179280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213948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213948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2139480" indent="-5446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23960" y="202680"/>
            <a:ext cx="87120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723960" y="990360"/>
            <a:ext cx="871200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927720" indent="-69588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314720" indent="-69588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701360" indent="-69624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marL="2088360" indent="-69624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marL="2474640" indent="-69588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marL="2474640" indent="-69588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marL="2474640" indent="-695880">
              <a:spcBef>
                <a:spcPts val="40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23960" y="202680"/>
            <a:ext cx="87120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23960" y="2171520"/>
            <a:ext cx="8712000" cy="474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917280" indent="-6876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299600" indent="-6876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681920" indent="-68796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marL="2064240" indent="-68796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marL="2446200" indent="-6876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marL="2446200" indent="-6876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marL="2446200" indent="-687600">
              <a:spcBef>
                <a:spcPts val="29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64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64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2323800"/>
            <a:ext cx="87120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960" y="1282320"/>
            <a:ext cx="87120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23960" y="3924360"/>
            <a:ext cx="871200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3960" y="5752800"/>
            <a:ext cx="871200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3960" y="1193760"/>
            <a:ext cx="5232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23960" y="3835080"/>
            <a:ext cx="5232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3960" y="1193760"/>
            <a:ext cx="5232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23960" y="3835080"/>
            <a:ext cx="5232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480" y="202680"/>
            <a:ext cx="8089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" descr=""/>
          <p:cNvPicPr/>
          <p:nvPr/>
        </p:nvPicPr>
        <p:blipFill>
          <a:blip r:embed="rId1"/>
          <a:stretch/>
        </p:blipFill>
        <p:spPr>
          <a:xfrm>
            <a:off x="6324480" y="1028880"/>
            <a:ext cx="3721320" cy="557352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723960" y="3835080"/>
            <a:ext cx="5232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Sophie Trettevick 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Indian Health Center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" descr=""/>
          <p:cNvPicPr/>
          <p:nvPr/>
        </p:nvPicPr>
        <p:blipFill>
          <a:blip r:embed="rId1"/>
          <a:srcRect l="11787" t="5733" r="11717" b="5804"/>
          <a:stretch/>
        </p:blipFill>
        <p:spPr>
          <a:xfrm>
            <a:off x="492120" y="174600"/>
            <a:ext cx="9163080" cy="7251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" descr=""/>
          <p:cNvPicPr/>
          <p:nvPr/>
        </p:nvPicPr>
        <p:blipFill>
          <a:blip r:embed="rId1"/>
          <a:srcRect l="138" t="0" r="0" b="0"/>
          <a:stretch/>
        </p:blipFill>
        <p:spPr>
          <a:xfrm>
            <a:off x="492120" y="1089000"/>
            <a:ext cx="9163080" cy="5426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1" descr=""/>
          <p:cNvPicPr/>
          <p:nvPr/>
        </p:nvPicPr>
        <p:blipFill>
          <a:blip r:embed="rId1"/>
          <a:srcRect l="0" t="11028" r="0" b="11006"/>
          <a:stretch/>
        </p:blipFill>
        <p:spPr>
          <a:xfrm>
            <a:off x="495360" y="174600"/>
            <a:ext cx="9159840" cy="7251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" descr=""/>
          <p:cNvPicPr/>
          <p:nvPr/>
        </p:nvPicPr>
        <p:blipFill>
          <a:blip r:embed="rId1"/>
          <a:srcRect l="18761" t="16878" r="28281" b="45198"/>
          <a:stretch/>
        </p:blipFill>
        <p:spPr>
          <a:xfrm>
            <a:off x="135000" y="826920"/>
            <a:ext cx="4881600" cy="2895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06" name="Picture 2" descr=""/>
          <p:cNvPicPr/>
          <p:nvPr/>
        </p:nvPicPr>
        <p:blipFill>
          <a:blip r:embed="rId2"/>
          <a:srcRect l="6903" t="19786" r="6903" b="19742"/>
          <a:stretch/>
        </p:blipFill>
        <p:spPr>
          <a:xfrm>
            <a:off x="5156280" y="826920"/>
            <a:ext cx="4879800" cy="2895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07" name="Picture 3" descr=""/>
          <p:cNvPicPr/>
          <p:nvPr/>
        </p:nvPicPr>
        <p:blipFill>
          <a:blip r:embed="rId3"/>
          <a:srcRect l="4625" t="7439" r="4625" b="7671"/>
          <a:stretch/>
        </p:blipFill>
        <p:spPr>
          <a:xfrm>
            <a:off x="135000" y="3886200"/>
            <a:ext cx="4881600" cy="2895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08" name="Picture 4" descr=""/>
          <p:cNvPicPr/>
          <p:nvPr/>
        </p:nvPicPr>
        <p:blipFill>
          <a:blip r:embed="rId4"/>
          <a:srcRect l="0" t="11101" r="0" b="10742"/>
          <a:stretch/>
        </p:blipFill>
        <p:spPr>
          <a:xfrm>
            <a:off x="5156280" y="3886200"/>
            <a:ext cx="4879800" cy="2895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" descr=""/>
          <p:cNvPicPr/>
          <p:nvPr/>
        </p:nvPicPr>
        <p:blipFill>
          <a:blip r:embed="rId1"/>
          <a:srcRect l="8656" t="6123" r="8559" b="6193"/>
          <a:stretch/>
        </p:blipFill>
        <p:spPr>
          <a:xfrm>
            <a:off x="492120" y="174600"/>
            <a:ext cx="9163080" cy="7251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"/>
          <p:cNvPicPr/>
          <p:nvPr/>
        </p:nvPicPr>
        <p:blipFill>
          <a:blip r:embed="rId1"/>
          <a:srcRect l="5813" t="3352" r="5820" b="3434"/>
          <a:stretch/>
        </p:blipFill>
        <p:spPr>
          <a:xfrm>
            <a:off x="492120" y="174600"/>
            <a:ext cx="9163080" cy="7251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" descr=""/>
          <p:cNvPicPr/>
          <p:nvPr/>
        </p:nvPicPr>
        <p:blipFill>
          <a:blip r:embed="rId1"/>
          <a:srcRect l="8481" t="9468" r="18476" b="1055"/>
          <a:stretch/>
        </p:blipFill>
        <p:spPr>
          <a:xfrm>
            <a:off x="4635360" y="1509840"/>
            <a:ext cx="2154240" cy="28731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12" name="Picture 2" descr=""/>
          <p:cNvPicPr/>
          <p:nvPr/>
        </p:nvPicPr>
        <p:blipFill>
          <a:blip r:embed="rId2"/>
          <a:srcRect l="5731" t="1095" r="29285" b="0"/>
          <a:stretch/>
        </p:blipFill>
        <p:spPr>
          <a:xfrm>
            <a:off x="609480" y="1511280"/>
            <a:ext cx="3457800" cy="4559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13" name="Picture 3" descr=""/>
          <p:cNvPicPr/>
          <p:nvPr/>
        </p:nvPicPr>
        <p:blipFill>
          <a:blip r:embed="rId3"/>
          <a:srcRect l="2948" t="0" r="2744" b="0"/>
          <a:stretch/>
        </p:blipFill>
        <p:spPr>
          <a:xfrm>
            <a:off x="7365960" y="3200400"/>
            <a:ext cx="2156040" cy="2873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"/>
          <p:cNvPicPr/>
          <p:nvPr/>
        </p:nvPicPr>
        <p:blipFill>
          <a:blip r:embed="rId1"/>
          <a:srcRect l="16180" t="20884" r="19039" b="10122"/>
          <a:stretch/>
        </p:blipFill>
        <p:spPr>
          <a:xfrm>
            <a:off x="749160" y="1509840"/>
            <a:ext cx="3457800" cy="4609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15" name="Picture 2" descr=""/>
          <p:cNvPicPr/>
          <p:nvPr/>
        </p:nvPicPr>
        <p:blipFill>
          <a:blip r:embed="rId2"/>
          <a:srcRect l="0" t="4285" r="0" b="4214"/>
          <a:stretch/>
        </p:blipFill>
        <p:spPr>
          <a:xfrm>
            <a:off x="5943600" y="1511280"/>
            <a:ext cx="3454560" cy="46101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rcRect l="14740" t="0" r="14701" b="0"/>
          <a:stretch/>
        </p:blipFill>
        <p:spPr>
          <a:xfrm>
            <a:off x="492120" y="177840"/>
            <a:ext cx="9163080" cy="7248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_administrator</cp:lastModifiedBy>
  <dcterms:modified xsi:type="dcterms:W3CDTF">2012-10-17T16:24:14Z</dcterms:modified>
  <cp:revision>1</cp:revision>
  <dc:subject/>
  <dc:title>Slide 1</dc:title>
</cp:coreProperties>
</file>