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9689-F248-4113-B4AF-73A6291D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47C3-FF0D-439E-B9E4-97439F14A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4A2F-1F52-4B49-83EE-B2CDE169D0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5B4A-0ADD-4D6B-A14B-4C5C0FCC5A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A440-69B1-4B63-AFCC-D220F66467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8923-7EC9-4039-BC79-E64AFCDD28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70916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7091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7091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74284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74284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70916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70916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70916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5E0-A71E-4F4F-AAEF-D1FC4ACD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27428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426-3C42-4B80-8114-858DE84E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058-0C82-4552-B6E3-33E7DEA7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D7F-0B32-453B-A415-3388C3EE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AA8-722A-458A-9BC7-F70B9B60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29D-8B43-4E3A-ADB0-27505B72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7091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62B-6E1B-4BC2-BAAF-D4DEF946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7428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7091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B95-7F5B-4877-B399-7552DE18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70916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09A-188F-4B8B-8437-81AD6B96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70916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827-CCD4-44D0-ABC5-9ECB2B76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7091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7091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640-B9A4-4525-9E17-758AC331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274284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274284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70916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70916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70916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7CF3-ABED-492A-BA24-323326EE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7091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7091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74284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70916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7428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website banner"/>
          <p:cNvPicPr/>
          <p:nvPr/>
        </p:nvPicPr>
        <p:blipFill>
          <a:blip r:embed="rId2"/>
          <a:stretch/>
        </p:blipFill>
        <p:spPr>
          <a:xfrm>
            <a:off x="0" y="0"/>
            <a:ext cx="914400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F7CB-B208-4AA5-9FA8-810EF7BF6F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Executive Director Repo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2 Tribes Resort Casino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mak, 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gust 9, 20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e Finkbonner, RPh, M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motion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nya Firemoon, NDTI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. Ann Baker, Reception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ice Jimenez, Project Coordina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gie Tafua, Temp Native Fitness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onte Casey, Temp Youth Track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m Kummer, Temp – TOTS2Twe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en Joseph, PRT Te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1333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bal Self Governance, Orlando, 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6 Tribal Emergency Preparedness Conf., Spokane, 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gon Health Insurance Marketplace, Pendleton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B Accreditation Committee, Alexandria, 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NI Mid-Year, Grand Rond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o our UPS service and cost sav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SF Board Meeting, Seattle, 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ents Continu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SF, Site visit to Swinom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egon Health Insurance Marketplace, Eugen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r Institute @ Board (3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WIC Foundation Board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B Board of Director’s Meeting, Alexandria, 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AI Mid-Year Conf., Spokane, 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vents Continu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619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ul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Meeting, Portland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3.0, Spokane, 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al Support Center meeting, 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60360" y="1447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Up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60360" y="2133720"/>
            <a:ext cx="8381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7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Aug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B Accreditation Committee meeting, 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B Executive Committee meeting, Seattle, 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Tribal Forum, Spokane, 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PAIHB Staff Picnic, Oak Park (August 19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PAIHB Hood to Coast (H2C)Team (August 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27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pco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pt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Oregon Health Insurance Marketplace, Bend, 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NIHB Annual Consumer Conference, Scottsdale, A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DSF Board Retre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ATNI, Tulalip, W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72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cto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CAI, Phoenix, A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60360" y="1371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Upco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165240" y="2133720"/>
            <a:ext cx="571788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>
            <a:off x="6095880" y="2819520"/>
            <a:ext cx="249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invited: September 23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ank you to those who have sponsored the ev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ill time to sponsor see the website or Lisa for mor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9:07:33Z</dcterms:created>
  <dc:creator>sbonnell</dc:creator>
  <dc:description/>
  <dc:language>en-US</dc:language>
  <cp:lastModifiedBy>Lisa Griggs</cp:lastModifiedBy>
  <cp:lastPrinted>2015-07-02T19:14:20Z</cp:lastPrinted>
  <dcterms:modified xsi:type="dcterms:W3CDTF">2016-08-05T16:56:52Z</dcterms:modified>
  <cp:revision>302</cp:revision>
  <dc:subject/>
  <dc:title>Slide 1</dc:title>
</cp:coreProperties>
</file>